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72288"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B9DA9-721F-4596-93D0-299BB39F4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F32D-5B84-43BB-ACDF-99329C276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CEAD9-7A24-4CD6-9DF1-66350CD27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B8782-E28C-43AC-8EF4-0A6E03113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F821-D13E-446F-8D4B-282A2DE5A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25980-58F8-471B-992E-7B80EBAF8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3E8A9-5DAE-4577-B8FB-ECF4F814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37218-DC0D-4D5F-8A68-6A96E93D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AF30F-58A2-4965-9115-01999FD74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20DF-25D2-4B15-BA2A-093DC00B9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1E65-05C5-4F92-832C-55C95488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D61A-66BF-4FA5-AD80-36D6EB461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575160" y="6248160"/>
            <a:ext cx="2409840" cy="368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sv-SE" sz="1000" spc="-1" strike="noStrike">
                <a:solidFill>
                  <a:srgbClr val="3333c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3333cc"/>
                </a:solidFill>
                <a:latin typeface="Comic Sans MS"/>
              </a:rPr>
              <a:t>CIT Energy Management </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3333cc"/>
                </a:solidFill>
                <a:latin typeface="Comic Sans MS"/>
              </a:rPr>
              <a:t>2010-02-04</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3333cc"/>
                </a:solidFill>
                <a:latin typeface="Comic Sans MS"/>
              </a:rPr>
              <a:t>Enno Abe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3FB4-8B63-47A0-941C-404235EE451F}" type="slidenum">
              <a:rPr b="0" lang="et-E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Bildobjekt 112" descr="ENMAN_VF50.tif"/>
          <p:cNvPicPr/>
          <p:nvPr/>
        </p:nvPicPr>
        <p:blipFill>
          <a:blip r:embed="rId1"/>
          <a:stretch/>
        </p:blipFill>
        <p:spPr>
          <a:xfrm>
            <a:off x="297000" y="314280"/>
            <a:ext cx="1969920" cy="490680"/>
          </a:xfrm>
          <a:prstGeom prst="rect">
            <a:avLst/>
          </a:prstGeom>
          <a:ln w="0">
            <a:noFill/>
          </a:ln>
        </p:spPr>
      </p:pic>
      <p:sp>
        <p:nvSpPr>
          <p:cNvPr id="42" name="Line 3"/>
          <p:cNvSpPr/>
          <p:nvPr/>
        </p:nvSpPr>
        <p:spPr>
          <a:xfrm>
            <a:off x="284040" y="874800"/>
            <a:ext cx="8675640" cy="1440"/>
          </a:xfrm>
          <a:prstGeom prst="line">
            <a:avLst/>
          </a:prstGeom>
          <a:ln w="1260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sp>
        <p:nvSpPr>
          <p:cNvPr id="43" name="TextBox 19"/>
          <p:cNvSpPr/>
          <p:nvPr/>
        </p:nvSpPr>
        <p:spPr>
          <a:xfrm>
            <a:off x="390600" y="1574640"/>
            <a:ext cx="822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Swis721 BT"/>
              </a:rPr>
              <a:t>       </a:t>
            </a:r>
            <a:r>
              <a:rPr b="1" lang="en-US" sz="6000" spc="-1" strike="noStrike" baseline="30000">
                <a:solidFill>
                  <a:srgbClr val="003399"/>
                </a:solidFill>
                <a:latin typeface="Swis721 BT"/>
              </a:rPr>
              <a:t> </a:t>
            </a:r>
            <a:endParaRPr b="0" lang="en-US" sz="6000" spc="-1" strike="noStrike">
              <a:solidFill>
                <a:srgbClr val="000000"/>
              </a:solidFill>
              <a:latin typeface="Times New Roman"/>
            </a:endParaRPr>
          </a:p>
        </p:txBody>
      </p:sp>
      <p:pic>
        <p:nvPicPr>
          <p:cNvPr id="44" name="Bildobjekt 125" descr="ENMAN_VF50.tif"/>
          <p:cNvPicPr/>
          <p:nvPr/>
        </p:nvPicPr>
        <p:blipFill>
          <a:blip r:embed="rId2"/>
          <a:stretch/>
        </p:blipFill>
        <p:spPr>
          <a:xfrm>
            <a:off x="297000" y="314280"/>
            <a:ext cx="1969920" cy="490680"/>
          </a:xfrm>
          <a:prstGeom prst="rect">
            <a:avLst/>
          </a:prstGeom>
          <a:ln w="0">
            <a:noFill/>
          </a:ln>
        </p:spPr>
      </p:pic>
      <p:sp>
        <p:nvSpPr>
          <p:cNvPr id="45" name="Rectangle 27"/>
          <p:cNvSpPr/>
          <p:nvPr/>
        </p:nvSpPr>
        <p:spPr>
          <a:xfrm>
            <a:off x="274680" y="2354400"/>
            <a:ext cx="8678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00"/>
                </a:solidFill>
                <a:latin typeface="Arial"/>
                <a:ea typeface="Arial"/>
              </a:rPr>
              <a:t>Varför energieffektivisering?</a:t>
            </a:r>
            <a:endParaRPr b="0" lang="en-US" sz="3600" spc="-1" strike="noStrike">
              <a:solidFill>
                <a:srgbClr val="000000"/>
              </a:solidFill>
              <a:latin typeface="Times New Roman"/>
            </a:endParaRPr>
          </a:p>
        </p:txBody>
      </p:sp>
      <p:sp>
        <p:nvSpPr>
          <p:cNvPr id="46" name="Platshållare för datum 1"/>
          <p:cNvSpPr/>
          <p:nvPr/>
        </p:nvSpPr>
        <p:spPr>
          <a:xfrm>
            <a:off x="3048120" y="6159600"/>
            <a:ext cx="274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200" spc="-1" strike="noStrike">
                <a:solidFill>
                  <a:srgbClr val="002060"/>
                </a:solidFill>
                <a:latin typeface="Calibri"/>
                <a:ea typeface="Calibri"/>
              </a:rPr>
              <a:t>November 2013</a:t>
            </a:r>
            <a:endParaRPr b="0" lang="en-US" sz="1200" spc="-1" strike="noStrike">
              <a:solidFill>
                <a:srgbClr val="000000"/>
              </a:solidFill>
              <a:latin typeface="Times New Roman"/>
            </a:endParaRPr>
          </a:p>
        </p:txBody>
      </p:sp>
      <p:sp>
        <p:nvSpPr>
          <p:cNvPr id="47" name="Rectangle 27"/>
          <p:cNvSpPr/>
          <p:nvPr/>
        </p:nvSpPr>
        <p:spPr>
          <a:xfrm>
            <a:off x="216000" y="5048280"/>
            <a:ext cx="8678880" cy="5806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gt Bergst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IT Energy Manage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49" name="Text Box 11"/>
          <p:cNvSpPr/>
          <p:nvPr/>
        </p:nvSpPr>
        <p:spPr>
          <a:xfrm>
            <a:off x="1684440" y="2328840"/>
            <a:ext cx="5753160" cy="3180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Global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U-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Nationell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Kommun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Företags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Byggnads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2000" spc="-1" strike="noStrike">
              <a:solidFill>
                <a:srgbClr val="000000"/>
              </a:solidFill>
              <a:latin typeface="Times New Roman"/>
            </a:endParaRPr>
          </a:p>
        </p:txBody>
      </p:sp>
      <p:sp>
        <p:nvSpPr>
          <p:cNvPr id="50"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51"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53" name="Text Box 11"/>
          <p:cNvSpPr/>
          <p:nvPr/>
        </p:nvSpPr>
        <p:spPr>
          <a:xfrm>
            <a:off x="1684440" y="2328840"/>
            <a:ext cx="5753160" cy="3390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Global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Det finns för närvarande inga globala avtal som styr oss mot att energieffektivisera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Det är än så länge endast insikten att vi bara har en planet med begränsade resurser samt risker med global uppvärmning som kan påverka oss att genomföra energieffektiviseringar. </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2000" spc="-1" strike="noStrike">
              <a:solidFill>
                <a:srgbClr val="000000"/>
              </a:solidFill>
              <a:latin typeface="Times New Roman"/>
            </a:endParaRPr>
          </a:p>
        </p:txBody>
      </p:sp>
      <p:sp>
        <p:nvSpPr>
          <p:cNvPr id="54"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55"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4" dur="500"/>
                                        <p:tgtEl>
                                          <p:spTgt spid="53">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57" name="Text Box 11"/>
          <p:cNvSpPr/>
          <p:nvPr/>
        </p:nvSpPr>
        <p:spPr>
          <a:xfrm>
            <a:off x="1684440" y="2328840"/>
            <a:ext cx="5986440" cy="3390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EU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U har utfärdat flera direktiv om att genomföra olika åtgärder för att energieffektivisera byggnader i medlemsländer</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Motiv för dessa direktiv är bl.a. ett  minskat beroende av primärenergi och minskade utsläpp av växthusgaser för att dämpa global uppvärmning.</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2000" spc="-1" strike="noStrike">
              <a:solidFill>
                <a:srgbClr val="000000"/>
              </a:solidFill>
              <a:latin typeface="Times New Roman"/>
            </a:endParaRPr>
          </a:p>
        </p:txBody>
      </p:sp>
      <p:sp>
        <p:nvSpPr>
          <p:cNvPr id="58"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59"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26" dur="500"/>
                                        <p:tgtEl>
                                          <p:spTgt spid="5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31"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61" name="Text Box 11"/>
          <p:cNvSpPr/>
          <p:nvPr/>
        </p:nvSpPr>
        <p:spPr>
          <a:xfrm>
            <a:off x="1684440" y="2328840"/>
            <a:ext cx="6367320" cy="32320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Nationell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Sverige, som EU medlem, är förpliktigad att minst följa utfärdade EU direktiv. Det hindrar dock inte att Sverige åtar sig en mer ambitiös plan för energieffektivisering av t.ex. byggnader.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Sverige håller för närvarande på att implementera EU-direktivet 2012/27/EU. Stor vikt läggs bl.a. på just energieffektivisering och kommuner och andra offentliga fastighetsägare kommer att beröras. </a:t>
            </a:r>
            <a:endParaRPr b="0" lang="en-US" sz="2000" spc="-1" strike="noStrike">
              <a:solidFill>
                <a:srgbClr val="000000"/>
              </a:solidFill>
              <a:latin typeface="Times New Roman"/>
            </a:endParaRPr>
          </a:p>
        </p:txBody>
      </p:sp>
      <p:sp>
        <p:nvSpPr>
          <p:cNvPr id="62"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63"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38" dur="500"/>
                                        <p:tgtEl>
                                          <p:spTgt spid="6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43"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65" name="Text Box 11"/>
          <p:cNvSpPr/>
          <p:nvPr/>
        </p:nvSpPr>
        <p:spPr>
          <a:xfrm>
            <a:off x="1684440" y="2328840"/>
            <a:ext cx="6367320" cy="4146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Kommun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 kommun påverkas naturligtvis av lagar och föreskrifter. Det hindrar dock inte att en kommun åtar sig en mer ambitiös plan för energieffektivisering av t.ex. byggnader.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 kommun, inklusive kommunala fastighetsbolag, är normalt en av de största fastighetsägarna inom kommunen. Motiv för att sänka energianvändningen är dels politisk, d.v.s. grundat i ett resonemang om miljöaspekter av energianvändningen, dels ekonomisk. Minskad energianvändning minska kostnader för kommunen.</a:t>
            </a:r>
            <a:endParaRPr b="0" lang="en-US" sz="2000" spc="-1" strike="noStrike">
              <a:solidFill>
                <a:srgbClr val="000000"/>
              </a:solidFill>
              <a:latin typeface="Times New Roman"/>
            </a:endParaRPr>
          </a:p>
        </p:txBody>
      </p:sp>
      <p:sp>
        <p:nvSpPr>
          <p:cNvPr id="66"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67"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50" dur="500"/>
                                        <p:tgtEl>
                                          <p:spTgt spid="65">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55"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69" name="Text Box 11"/>
          <p:cNvSpPr/>
          <p:nvPr/>
        </p:nvSpPr>
        <p:spPr>
          <a:xfrm>
            <a:off x="1684440" y="2328840"/>
            <a:ext cx="6367320" cy="353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Företags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 företag, precis som en kommun, påverkas naturligtvis av lagar och föreskrifter. Det står dock företaget fritt att anta en mer ambitiös plan för energieffektivisering av t.ex. byggnader.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Företag påverkas av omvärlden och för att visa upp ett samhällsengagemang kan t.ex. energieffektivitet vara en viktig policyfråga. Förutom detta innebär naturligtvis minskad energianvändning lägre kostnader och bättre lönsamhet för företaget.</a:t>
            </a:r>
            <a:endParaRPr b="0" lang="en-US" sz="2000" spc="-1" strike="noStrike">
              <a:solidFill>
                <a:srgbClr val="000000"/>
              </a:solidFill>
              <a:latin typeface="Times New Roman"/>
            </a:endParaRPr>
          </a:p>
        </p:txBody>
      </p:sp>
      <p:sp>
        <p:nvSpPr>
          <p:cNvPr id="70"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71"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62" dur="500"/>
                                        <p:tgtEl>
                                          <p:spTgt spid="69">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6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73" name="Text Box 11"/>
          <p:cNvSpPr/>
          <p:nvPr/>
        </p:nvSpPr>
        <p:spPr>
          <a:xfrm>
            <a:off x="1684440" y="2328840"/>
            <a:ext cx="6367320" cy="2622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Byggnads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Det är på denna nivå som energi faktiskt kan sparas!</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ergieffektivisering i en byggnad leder i många fall till bättre inomhusklimat och därmed bättre trivsel och produktivitet. Renovering med energieffektivisering leder också till högre värde på byggnaden (förutom minskade kostnader!)</a:t>
            </a:r>
            <a:endParaRPr b="0" lang="en-US" sz="2000" spc="-1" strike="noStrike">
              <a:solidFill>
                <a:srgbClr val="000000"/>
              </a:solidFill>
              <a:latin typeface="Times New Roman"/>
            </a:endParaRPr>
          </a:p>
        </p:txBody>
      </p:sp>
      <p:sp>
        <p:nvSpPr>
          <p:cNvPr id="74"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75"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74" dur="500"/>
                                        <p:tgtEl>
                                          <p:spTgt spid="7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79"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sp>
        <p:nvSpPr>
          <p:cNvPr id="77" name="AutoShape 4"/>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78" name="Bildobjekt 116" descr="ENMAN_VF50.tif"/>
          <p:cNvPicPr/>
          <p:nvPr/>
        </p:nvPicPr>
        <p:blipFill>
          <a:blip r:embed="rId1"/>
          <a:stretch/>
        </p:blipFill>
        <p:spPr>
          <a:xfrm>
            <a:off x="297000" y="314280"/>
            <a:ext cx="1969920" cy="490680"/>
          </a:xfrm>
          <a:prstGeom prst="rect">
            <a:avLst/>
          </a:prstGeom>
          <a:ln w="0">
            <a:noFill/>
          </a:ln>
        </p:spPr>
      </p:pic>
      <p:sp>
        <p:nvSpPr>
          <p:cNvPr id="79" name="textruta 6"/>
          <p:cNvSpPr/>
          <p:nvPr/>
        </p:nvSpPr>
        <p:spPr>
          <a:xfrm>
            <a:off x="2445120" y="2814480"/>
            <a:ext cx="424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2060"/>
                </a:solidFill>
                <a:latin typeface="Calibri"/>
                <a:ea typeface="Calibri"/>
              </a:rPr>
              <a:t>Tack för uppmärksamhe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20:00:34Z</dcterms:created>
  <dc:creator>Enno Abel</dc:creator>
  <dc:description/>
  <dc:language>en-US</dc:language>
  <cp:lastModifiedBy>Bengt</cp:lastModifiedBy>
  <dcterms:modified xsi:type="dcterms:W3CDTF">2013-11-04T17:42:37Z</dcterms:modified>
  <cp:revision>166</cp:revision>
  <dc:subject/>
  <dc:title>PowerPoint-presentation</dc:title>
</cp:coreProperties>
</file>