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B95-6DB4-47FB-92A2-86803459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D8A-17B8-4D78-BC78-D000746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C6D-BBE8-41BE-AB70-192F7515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7BD-D23B-4319-8CC4-C098B370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DAF-CFF7-4192-9718-D2EF9DA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2C3-3D6E-41EB-9466-E808945A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223-7ACA-4E85-97AF-167648F3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818-91B2-415C-854A-F1F2A8C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873-08A9-467D-B79B-6073FB32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B12-A644-461B-AF6A-2C683801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E04-DCD4-46C9-BC40-1B5AE1CF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456-C16B-4A04-8D75-1F031D87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86B-01BC-41BE-AFBC-25AC22E509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38240" y="1627200"/>
            <a:ext cx="67104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Hitta åtgärdspaket och bedöma dess lönsam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Lönsam energieffektivisering genom Total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131920" y="3165480"/>
            <a:ext cx="464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Projektinnehåll Etapp 1 - Total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En kort int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62160" y="545796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Bengt Bergsten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CIT Energ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34960" y="13953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rojektinnehåll Etap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430280" y="2270160"/>
            <a:ext cx="4913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1 Identifiering av åtgä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2 Energiberäknin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3 Kostnadskalky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4 Lönsamhetskalk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1:5 Summering och ra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1 Identifiering av åtgä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403280" y="2190600"/>
            <a:ext cx="66931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t hitta åtgärder för energieffektivis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åste göras i samarbete mellan Förvaltare, Driftspersonal och Energikon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a fram tillgänglig byggnads- och installations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a fram energistatistik och energifaktu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enomför en noggrann besiktning på pl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kument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ör lista på åtgärder: Ta med både möjliga och ”omöjliga” åtgär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93920" y="1809720"/>
            <a:ext cx="669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1 Identifiering av åtgä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22360" y="2343240"/>
            <a:ext cx="66931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nliga källor till byggnads- och installations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itningar; plan, vyer, sektioner, principsch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rvju med drift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rift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riftd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VK protok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ergidek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rift- &amp; underhållsinstrukt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v. tidigare energiutred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2 Energiberäknin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403280" y="2028960"/>
            <a:ext cx="66931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t göra energiberäkningar är den svåraste delen i etap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pphandlad konsult bör definitivt ha god erfarenhet och kunskap att göra energiberäk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sulten, och beställaren (!), bör definitivt ha förståelse för att energiberäkningar är osä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nyttja framtagen byggnads- och installationsinformation men även ev. tidigare utredningar, intervjua driftspersonal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sulten bör endast använda validerade beräknings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örja med att beräkna besparingen av varje åtgärd för 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kument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3 Kostnadskalky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403280" y="2028960"/>
            <a:ext cx="66931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pphandlad konsult bör definitivt ha god erfarenhet och kunskap att göra kostnadskalky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sulten, och beställaren (!), bör definitivt ha förståelse för att kostnadskalkyler är osä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stnadskalkyler kan göras på olika sätt: egen eller inhyrd kalkylator, med sektionsfakta, m.h.a. entreprenör(er) eller kombination av käl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kument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4 Lönsamhetskalk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403280" y="1933560"/>
            <a:ext cx="66931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angordna åtgärderna i lönsamhetsordning: åtgärd 1 lönsammast, åtgärd 2 näst lönsammast, osv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kapa och energiberäkna åtgärdspaket i successiv ordning enligt en speciell metod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vänd Totalprojekt-program från BELOK (www.belok.se) och lägg in hela det slutliga pake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sultatet i form av ett diagram ger information om det inlagda paketet ger tillräcklig lönsamhet (internrä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m inte lönsamhetskraven uppnås så ta bort åtgärder från slutet av paketet och framå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304920" y="304920"/>
          <a:ext cx="21333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133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Line 3"/>
          <p:cNvSpPr/>
          <p:nvPr/>
        </p:nvSpPr>
        <p:spPr>
          <a:xfrm>
            <a:off x="2590920" y="838080"/>
            <a:ext cx="6400800" cy="180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04920" y="6629400"/>
            <a:ext cx="8610480" cy="1440"/>
          </a:xfrm>
          <a:prstGeom prst="line">
            <a:avLst/>
          </a:prstGeom>
          <a:ln w="5724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39840" y="12398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:5 Summering och 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393920" y="1905120"/>
            <a:ext cx="6692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eställaren gör upp med konsulten om vad som skall ingå i rapport om Etap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m konsult i etapp 1 ej är med i följande etapper krävs noggrann dokumentering av åtgä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3"/>
          <a:stretch/>
        </p:blipFill>
        <p:spPr>
          <a:xfrm>
            <a:off x="1065240" y="3819600"/>
            <a:ext cx="3041640" cy="2309760"/>
          </a:xfrm>
          <a:prstGeom prst="rect">
            <a:avLst/>
          </a:prstGeom>
          <a:ln w="9360">
            <a:solidFill>
              <a:srgbClr val="7878de"/>
            </a:solidFill>
            <a:miter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4282920" y="3822840"/>
            <a:ext cx="4073760" cy="2300040"/>
          </a:xfrm>
          <a:prstGeom prst="rect">
            <a:avLst/>
          </a:prstGeom>
          <a:ln w="9360">
            <a:solidFill>
              <a:srgbClr val="7878de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1184400" y="3486240"/>
            <a:ext cx="23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Förväntad energibesp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289400" y="3514680"/>
            <a:ext cx="23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Förväntad lönsamh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9:27:35Z</dcterms:created>
  <dc:creator>Per-Erik Nilsson</dc:creator>
  <dc:description/>
  <dc:language>en-US</dc:language>
  <cp:lastModifiedBy>Bengt</cp:lastModifiedBy>
  <dcterms:modified xsi:type="dcterms:W3CDTF">2013-11-04T17:58:57Z</dcterms:modified>
  <cp:revision>200</cp:revision>
  <dc:subject/>
  <dc:title>PowerPoint-presentation</dc:title>
</cp:coreProperties>
</file>