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F15-208B-41BB-B12B-E0FB37DE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F28-3A41-44E6-A798-FF1ED1AF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2C5-3CC2-4F0B-8966-FF9C9887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786-D4F1-49C5-AB9E-CB19C79D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689-E9E8-4BCF-B849-B849B122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6D0-98BA-4BC7-AB06-230E2BFD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6A5-A885-4708-8D52-A35EA45E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FE42-2AC1-4B22-81BC-E0CACE53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78F-1DC0-4C9E-92FE-649A2008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A19-EEDF-44CF-A223-5F42C0BF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1FC2-F837-4E3B-AF6E-7A23824B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F8E-2AAB-474B-BE04-9B74DDCE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8F1B-8179-4336-A583-41CFDCCD3B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304920" y="304920"/>
          <a:ext cx="213336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2133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Line 3"/>
          <p:cNvSpPr/>
          <p:nvPr/>
        </p:nvSpPr>
        <p:spPr>
          <a:xfrm>
            <a:off x="2590920" y="838080"/>
            <a:ext cx="6400800" cy="180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>
            <a:off x="304920" y="6629400"/>
            <a:ext cx="8610480" cy="144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038240" y="1627200"/>
            <a:ext cx="67104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Hitta åtgärdspaket och bedöma dess lönsam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Lönsam energieffektivisering genom Totalproje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131920" y="3165480"/>
            <a:ext cx="464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399"/>
                </a:solidFill>
                <a:latin typeface="Arial"/>
              </a:rPr>
              <a:t>Projektinnehåll Etapp 1 - Totalpro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399"/>
                </a:solidFill>
                <a:latin typeface="Arial"/>
              </a:rPr>
              <a:t>En kort intro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062160" y="5457960"/>
            <a:ext cx="29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Bengt Bergsten</a:t>
            </a:r>
            <a:br>
              <a:rPr sz="1600"/>
            </a:b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CIT Energ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304920" y="304920"/>
          <a:ext cx="213336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2133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Line 3"/>
          <p:cNvSpPr/>
          <p:nvPr/>
        </p:nvSpPr>
        <p:spPr>
          <a:xfrm>
            <a:off x="2590920" y="838080"/>
            <a:ext cx="6400800" cy="180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304920" y="6629400"/>
            <a:ext cx="8610480" cy="144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434960" y="1395360"/>
            <a:ext cx="45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Projektinnehåll Etap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430280" y="2270160"/>
            <a:ext cx="49132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399"/>
                </a:solidFill>
                <a:latin typeface="Arial"/>
              </a:rPr>
              <a:t>1:1 Identifiering av åtgä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399"/>
                </a:solidFill>
                <a:latin typeface="Arial"/>
              </a:rPr>
              <a:t>1:2 Energiberäknin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399"/>
                </a:solidFill>
                <a:latin typeface="Arial"/>
              </a:rPr>
              <a:t>1:3 Kostnadskalky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399"/>
                </a:solidFill>
                <a:latin typeface="Arial"/>
              </a:rPr>
              <a:t>1:4 Lönsamhetskalk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399"/>
                </a:solidFill>
                <a:latin typeface="Arial"/>
              </a:rPr>
              <a:t>1:5 Summering och ra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304920" y="304920"/>
          <a:ext cx="213336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2133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Line 3"/>
          <p:cNvSpPr/>
          <p:nvPr/>
        </p:nvSpPr>
        <p:spPr>
          <a:xfrm>
            <a:off x="2590920" y="838080"/>
            <a:ext cx="6400800" cy="180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304920" y="6629400"/>
            <a:ext cx="8610480" cy="144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39840" y="123984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1:1 Identifiering av åtgä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403280" y="2190600"/>
            <a:ext cx="669312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tt hitta åtgärder för energieffektivis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Måste göras i samarbete mellan Förvaltare, Driftspersonal och Energikon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a fram tillgänglig byggnads- och installations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a fram energistatistik och energifaktu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enomför en noggrann besiktning på pl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okumente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ör lista på åtgärder: Ta med både möjliga och ”omöjliga” åtgär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393920" y="1809720"/>
            <a:ext cx="6692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304920" y="304920"/>
          <a:ext cx="213336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2133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Line 3"/>
          <p:cNvSpPr/>
          <p:nvPr/>
        </p:nvSpPr>
        <p:spPr>
          <a:xfrm>
            <a:off x="2590920" y="838080"/>
            <a:ext cx="6400800" cy="180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304920" y="6629400"/>
            <a:ext cx="8610480" cy="144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239840" y="123984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1:1 Identifiering av åtgä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422360" y="2343240"/>
            <a:ext cx="66931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Vanliga källor till byggnads- och installations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itningar; plan, vyer, sektioner, principsche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tervju med drift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rift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riftd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VK protok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nergidek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rift- &amp; underhållsinstrukti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v. tidigare energiutrednin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304920" y="304920"/>
          <a:ext cx="213336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2133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Line 3"/>
          <p:cNvSpPr/>
          <p:nvPr/>
        </p:nvSpPr>
        <p:spPr>
          <a:xfrm>
            <a:off x="2590920" y="838080"/>
            <a:ext cx="6400800" cy="180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304920" y="6629400"/>
            <a:ext cx="8610480" cy="144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239840" y="123984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1:2 Energiberäknin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403280" y="2028960"/>
            <a:ext cx="66931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tt göra energiberäkningar är den svåraste delen i etap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pphandlad konsult bör definitivt ha god erfarenhet och kunskap att göra energiberäknin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Konsulten, och beställaren (!), bör definitivt ha förståelse för att energiberäkningar är osäk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tnyttja framtagen byggnads- och installationsinformation men även ev. tidigare utredningar, intervjua driftspersonal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Konsulten bör endast använda validerade beräknings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Börja med att beräkna besparingen av varje åtgärd för s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okumente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304920" y="304920"/>
          <a:ext cx="213336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2133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Line 3"/>
          <p:cNvSpPr/>
          <p:nvPr/>
        </p:nvSpPr>
        <p:spPr>
          <a:xfrm>
            <a:off x="2590920" y="838080"/>
            <a:ext cx="6400800" cy="180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304920" y="6629400"/>
            <a:ext cx="8610480" cy="144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239840" y="123984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1:3 Kostnadskalky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403280" y="2028960"/>
            <a:ext cx="669312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pphandlad konsult bör definitivt ha god erfarenhet och kunskap att göra kostnadskalky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Konsulten, och beställaren (!), bör definitivt ha förståelse för att kostnadskalkyler är osäk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Kostnadskalkyler kan göras på olika sätt: egen eller inhyrd kalkylator, med sektionsfakta, m.h.a. entreprenör(er) eller kombination av käl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okumente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304920" y="304920"/>
          <a:ext cx="213336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2133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Line 3"/>
          <p:cNvSpPr/>
          <p:nvPr/>
        </p:nvSpPr>
        <p:spPr>
          <a:xfrm>
            <a:off x="2590920" y="838080"/>
            <a:ext cx="6400800" cy="180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304920" y="6629400"/>
            <a:ext cx="8610480" cy="144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239840" y="123984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1:4 Lönsamhetskalk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403280" y="1933560"/>
            <a:ext cx="66931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angordna åtgärderna i lönsamhetsordning: åtgärd 1 lönsammast, åtgärd 2 näst lönsammast, osv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kapa och energiberäkna åtgärdspaket i successiv ordning enligt en speciell metod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nvänd Totalprojekt-program från BELOK (www.belok.se) och lägg in hela det slutliga pake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esultatet i form av ett diagram ger information om det inlagda paketet ger tillräcklig lönsamhet (internrän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m inte lönsamhetskraven uppnås så ta bort åtgärder från slutet av paketet och framå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304920" y="304920"/>
          <a:ext cx="213336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2133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Line 3"/>
          <p:cNvSpPr/>
          <p:nvPr/>
        </p:nvSpPr>
        <p:spPr>
          <a:xfrm>
            <a:off x="2590920" y="838080"/>
            <a:ext cx="6400800" cy="180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304920" y="6629400"/>
            <a:ext cx="8610480" cy="144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239840" y="123984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1:5 Summering och ra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393920" y="1905120"/>
            <a:ext cx="6692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Beställaren gör upp med konsulten om vad som skall ingå i rapport om Etapp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m konsult i etapp 1 ej är med i följande etapper krävs noggrann dokumentering av åtgä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"/>
          <p:cNvPicPr/>
          <p:nvPr/>
        </p:nvPicPr>
        <p:blipFill>
          <a:blip r:embed="rId3"/>
          <a:stretch/>
        </p:blipFill>
        <p:spPr>
          <a:xfrm>
            <a:off x="1065240" y="3819600"/>
            <a:ext cx="3041640" cy="2309760"/>
          </a:xfrm>
          <a:prstGeom prst="rect">
            <a:avLst/>
          </a:prstGeom>
          <a:ln w="9360">
            <a:solidFill>
              <a:srgbClr val="7878de"/>
            </a:solidFill>
            <a:miter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4282920" y="3822840"/>
            <a:ext cx="4073760" cy="2300040"/>
          </a:xfrm>
          <a:prstGeom prst="rect">
            <a:avLst/>
          </a:prstGeom>
          <a:ln w="9360">
            <a:solidFill>
              <a:srgbClr val="7878de"/>
            </a:solidFill>
            <a:miter/>
          </a:ln>
        </p:spPr>
      </p:pic>
      <p:sp>
        <p:nvSpPr>
          <p:cNvPr id="93" name="Text Box 6"/>
          <p:cNvSpPr/>
          <p:nvPr/>
        </p:nvSpPr>
        <p:spPr>
          <a:xfrm>
            <a:off x="1184400" y="3486240"/>
            <a:ext cx="23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Förväntad energibesp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289400" y="3514680"/>
            <a:ext cx="239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Förväntad lönsamh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9:27:35Z</dcterms:created>
  <dc:creator>Per-Erik Nilsson</dc:creator>
  <dc:description/>
  <dc:language>en-US</dc:language>
  <cp:lastModifiedBy>Bengt</cp:lastModifiedBy>
  <dcterms:modified xsi:type="dcterms:W3CDTF">2013-11-04T17:58:57Z</dcterms:modified>
  <cp:revision>200</cp:revision>
  <dc:subject/>
  <dc:title>PowerPoint-presentation</dc:title>
</cp:coreProperties>
</file>