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8150" cy="9923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77FC76-5100-4AA8-9412-CE275BC87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4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0B786B-7698-49C2-A954-716D00CB13B7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3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C48E00-2F89-42DD-AE8D-9719FB0797AD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4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7DFC1A-1857-4F98-968C-498A20E9EE44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7731ED-46E1-4861-830C-52B7A8D8B57C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6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665871-29E2-414F-8705-36AB2BDB7E59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7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A4A34E-B956-4D97-884E-1C589D9D5F9A}" type="slidenum">
              <a: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2E545A-9151-479F-BEA8-CB287026E1A3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6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9F85D8-BA06-414C-B635-C2ED675746AA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7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0C96DE-D1A5-472A-9E70-C5A91647B716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8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138554-D391-484D-831C-0728947511F5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9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188C05-45F7-4E53-8F82-7693877B863C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0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A5D4BF-D67B-4537-AE60-1908E3D74948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1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D283C1-DAE3-42FF-A2E9-D03D13FA1AEA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2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4AF819-B0FC-4C38-93DF-99C63DCDA295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712476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15"/>
          <p:cNvSpPr/>
          <p:nvPr/>
        </p:nvSpPr>
        <p:spPr>
          <a:xfrm>
            <a:off x="2133720" y="7023240"/>
            <a:ext cx="17776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ktangel 7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Belok_Trade2"/>
          <p:cNvPicPr/>
          <p:nvPr/>
        </p:nvPicPr>
        <p:blipFill>
          <a:blip r:embed="rId2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5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Bildobjekt 11" descr="Länsstyrelsen logga från Sara.bmp"/>
          <p:cNvPicPr/>
          <p:nvPr/>
        </p:nvPicPr>
        <p:blipFill>
          <a:blip r:embed="rId3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7" name="Bildobjekt 12" descr="cit_logo.png"/>
          <p:cNvPicPr/>
          <p:nvPr/>
        </p:nvPicPr>
        <p:blipFill>
          <a:blip r:embed="rId4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" descr=""/>
          <p:cNvPicPr/>
          <p:nvPr/>
        </p:nvPicPr>
        <p:blipFill>
          <a:blip r:embed="rId5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9" name="Picture 5" descr="Energimyndigheten"/>
          <p:cNvPicPr/>
          <p:nvPr/>
        </p:nvPicPr>
        <p:blipFill>
          <a:blip r:embed="rId6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10" name="Rektangel 3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1" descr="Belok_Trade2"/>
          <p:cNvPicPr/>
          <p:nvPr/>
        </p:nvPicPr>
        <p:blipFill>
          <a:blip r:embed="rId7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13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Bildobjekt 12" descr="Länsstyrelsen logga från Sara.bmp"/>
          <p:cNvPicPr/>
          <p:nvPr/>
        </p:nvPicPr>
        <p:blipFill>
          <a:blip r:embed="rId8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15" name="Bildobjekt 13" descr="cit_logo.png"/>
          <p:cNvPicPr/>
          <p:nvPr/>
        </p:nvPicPr>
        <p:blipFill>
          <a:blip r:embed="rId9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" descr=""/>
          <p:cNvPicPr/>
          <p:nvPr/>
        </p:nvPicPr>
        <p:blipFill>
          <a:blip r:embed="rId10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17" name="Picture 5" descr="Energimyndigheten"/>
          <p:cNvPicPr/>
          <p:nvPr/>
        </p:nvPicPr>
        <p:blipFill>
          <a:blip r:embed="rId11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1"/>
          <p:cNvSpPr/>
          <p:nvPr/>
        </p:nvSpPr>
        <p:spPr>
          <a:xfrm>
            <a:off x="712476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133720" y="7023240"/>
            <a:ext cx="17776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ktangel 7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1" descr="Belok_Trade2"/>
          <p:cNvPicPr/>
          <p:nvPr/>
        </p:nvPicPr>
        <p:blipFill>
          <a:blip r:embed="rId2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61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Bildobjekt 11" descr="Länsstyrelsen logga från Sara.bmp"/>
          <p:cNvPicPr/>
          <p:nvPr/>
        </p:nvPicPr>
        <p:blipFill>
          <a:blip r:embed="rId3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63" name="Bildobjekt 12" descr="cit_logo.png"/>
          <p:cNvPicPr/>
          <p:nvPr/>
        </p:nvPicPr>
        <p:blipFill>
          <a:blip r:embed="rId4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5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65" name="Picture 5" descr="Energimyndigheten"/>
          <p:cNvPicPr/>
          <p:nvPr/>
        </p:nvPicPr>
        <p:blipFill>
          <a:blip r:embed="rId6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sv-SE" sz="1200" spc="-1" strike="noStrike">
                <a:solidFill>
                  <a:srgbClr val="000000"/>
                </a:solidFill>
                <a:latin typeface="Comic Sans MS"/>
              </a:rPr>
              <a:t>Klicka här för att ändra format</a:t>
            </a: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Klicka här för att ändra format på bakgrundstexten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ivå två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ivå tre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ivå fyra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ivå fem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ruta 8"/>
          <p:cNvSpPr/>
          <p:nvPr/>
        </p:nvSpPr>
        <p:spPr>
          <a:xfrm>
            <a:off x="1173240" y="747720"/>
            <a:ext cx="758160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800" spc="-1" strike="noStrike">
                <a:solidFill>
                  <a:srgbClr val="002060"/>
                </a:solidFill>
                <a:latin typeface="Tahoma"/>
              </a:rPr>
              <a:t>Upphandla totalproje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ktangel 7"/>
          <p:cNvSpPr/>
          <p:nvPr/>
        </p:nvSpPr>
        <p:spPr>
          <a:xfrm>
            <a:off x="1336680" y="3083040"/>
            <a:ext cx="7241760" cy="179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0" lang="sv-SE" sz="2400" spc="-1" strike="noStrike">
                <a:solidFill>
                  <a:srgbClr val="002060"/>
                </a:solidFill>
                <a:latin typeface="Tahoma"/>
              </a:rPr>
              <a:t>Lars Ek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4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0" i="1" lang="sv-SE" sz="2400" spc="-1" strike="noStrike">
                <a:solidFill>
                  <a:srgbClr val="002060"/>
                </a:solidFill>
                <a:latin typeface="Tahoma"/>
              </a:rPr>
              <a:t>CIT Energy Management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ruta 5"/>
          <p:cNvSpPr/>
          <p:nvPr/>
        </p:nvSpPr>
        <p:spPr>
          <a:xfrm>
            <a:off x="1762200" y="247680"/>
            <a:ext cx="6533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Skärp kvalificer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ktangel 5"/>
          <p:cNvSpPr/>
          <p:nvPr/>
        </p:nvSpPr>
        <p:spPr>
          <a:xfrm>
            <a:off x="1523880" y="1482840"/>
            <a:ext cx="695304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Om vi formulerat (en del av) ”börkraven” som kvalificeringskrav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ktangel 6"/>
          <p:cNvSpPr/>
          <p:nvPr/>
        </p:nvSpPr>
        <p:spPr>
          <a:xfrm>
            <a:off x="1590840" y="3521160"/>
            <a:ext cx="69530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…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hade endast anbud B gått vid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ktangel 8"/>
          <p:cNvSpPr/>
          <p:nvPr/>
        </p:nvSpPr>
        <p:spPr>
          <a:xfrm>
            <a:off x="2057400" y="4695840"/>
            <a:ext cx="6019560" cy="112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i="1" lang="sv-SE" sz="2400" spc="-1" strike="noStrike">
                <a:solidFill>
                  <a:srgbClr val="191966"/>
                </a:solidFill>
                <a:latin typeface="Arial"/>
              </a:rPr>
              <a:t>Anbud B – Pris 390 000 k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i="1" lang="sv-SE" sz="2000" spc="-1" strike="noStrike">
                <a:solidFill>
                  <a:srgbClr val="191966"/>
                </a:solidFill>
                <a:latin typeface="Arial"/>
              </a:rPr>
              <a:t>(3% dyrare men vi får större tekniska förde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ktangel 9"/>
          <p:cNvSpPr/>
          <p:nvPr/>
        </p:nvSpPr>
        <p:spPr>
          <a:xfrm>
            <a:off x="1600200" y="2498760"/>
            <a:ext cx="6171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…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och sagt att lägsta pris vin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Users\Administratör\AppData\Local\Microsoft\Windows\Temporary Internet Files\Content.IE5\ST2RBHM2\MC900055113[1].wmf"/>
          <p:cNvPicPr/>
          <p:nvPr/>
        </p:nvPicPr>
        <p:blipFill>
          <a:blip r:embed="rId1"/>
          <a:stretch/>
        </p:blipFill>
        <p:spPr>
          <a:xfrm>
            <a:off x="7818480" y="169920"/>
            <a:ext cx="1211040" cy="82188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13" descr="C:\Documents and Settings\Lars\Lokala inställningar\Temporary Internet Files\Content.IE5\YUCJE1B3\MC900012873[1].wmf"/>
          <p:cNvPicPr/>
          <p:nvPr/>
        </p:nvPicPr>
        <p:blipFill>
          <a:blip r:embed="rId2"/>
          <a:stretch/>
        </p:blipFill>
        <p:spPr>
          <a:xfrm>
            <a:off x="7905600" y="2286000"/>
            <a:ext cx="1095120" cy="939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ruta 5"/>
          <p:cNvSpPr/>
          <p:nvPr/>
        </p:nvSpPr>
        <p:spPr>
          <a:xfrm>
            <a:off x="1476360" y="247680"/>
            <a:ext cx="72007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Kriterier för kvalific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ktangel 5"/>
          <p:cNvSpPr/>
          <p:nvPr/>
        </p:nvSpPr>
        <p:spPr>
          <a:xfrm>
            <a:off x="1743120" y="1511280"/>
            <a:ext cx="5971680" cy="3747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Anbudets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Sociala avgifter och skatter beta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Teknisk förmå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Kompe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Erfarenhet /Referen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Resu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C:\Users\Administratör\AppData\Local\Microsoft\Windows\Temporary Internet Files\Content.IE5\03S9PRNR\MC900310998[1].wmf"/>
          <p:cNvPicPr/>
          <p:nvPr/>
        </p:nvPicPr>
        <p:blipFill>
          <a:blip r:embed="rId1"/>
          <a:stretch/>
        </p:blipFill>
        <p:spPr>
          <a:xfrm>
            <a:off x="7286760" y="1689120"/>
            <a:ext cx="1429920" cy="139176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4" descr="C:\Users\Administratör\AppData\Local\Microsoft\Windows\Temporary Internet Files\Content.IE5\ST2RBHM2\MC900339768[1].wmf"/>
          <p:cNvPicPr/>
          <p:nvPr/>
        </p:nvPicPr>
        <p:blipFill>
          <a:blip r:embed="rId2"/>
          <a:stretch/>
        </p:blipFill>
        <p:spPr>
          <a:xfrm>
            <a:off x="7404120" y="4324320"/>
            <a:ext cx="1287000" cy="103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ruta 5"/>
          <p:cNvSpPr/>
          <p:nvPr/>
        </p:nvSpPr>
        <p:spPr>
          <a:xfrm>
            <a:off x="1476360" y="247680"/>
            <a:ext cx="72007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Teknisk förmå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ktangel 5"/>
          <p:cNvSpPr/>
          <p:nvPr/>
        </p:nvSpPr>
        <p:spPr>
          <a:xfrm>
            <a:off x="1619280" y="1415880"/>
            <a:ext cx="7524360" cy="52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Kompetens och erfarenh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Skall styrkas med meritförteckning och referenser som visar att konsulten uppfyller nedan nämnda kr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Konsulten skall 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Mångårig erfarenhet av energikartläggningar / energibesikt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Mångårig erfarenhet av datoriserade energiberäk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Mångårig erfarenhet av lönsamhetsberäk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Genomfört minst ett uppdrag motsvarande det efterfråg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Resu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Anbudet skall innehålla en beskrivning av konsultföretaget, den tänkta projektorganisationen samt tillgängliga mät- och beräkningshjälpme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Anbudet skall innehålla en beskrivning av projektets upplägg och genomfö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C:\Users\Administratör\AppData\Local\Microsoft\Windows\Temporary Internet Files\Content.IE5\03S9PRNR\MC900230537[1].wmf"/>
          <p:cNvPicPr/>
          <p:nvPr/>
        </p:nvPicPr>
        <p:blipFill>
          <a:blip r:embed="rId1"/>
          <a:stretch/>
        </p:blipFill>
        <p:spPr>
          <a:xfrm>
            <a:off x="7058160" y="114480"/>
            <a:ext cx="1285560" cy="1622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90520" y="533520"/>
            <a:ext cx="4333680" cy="342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Kvalifikation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Utvärdering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Cj04352780000[1]"/>
          <p:cNvPicPr/>
          <p:nvPr/>
        </p:nvPicPr>
        <p:blipFill>
          <a:blip r:embed="rId1"/>
          <a:stretch/>
        </p:blipFill>
        <p:spPr>
          <a:xfrm>
            <a:off x="1639800" y="4265640"/>
            <a:ext cx="3039840" cy="210960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3" descr="C:\Users\Administratör\AppData\Local\Microsoft\Windows\Temporary Internet Files\Content.IE5\ST2RBHM2\MC900055113[1].wmf"/>
          <p:cNvPicPr/>
          <p:nvPr/>
        </p:nvPicPr>
        <p:blipFill>
          <a:blip r:embed="rId2"/>
          <a:stretch/>
        </p:blipFill>
        <p:spPr>
          <a:xfrm>
            <a:off x="1428840" y="1150920"/>
            <a:ext cx="2639520" cy="1793520"/>
          </a:xfrm>
          <a:prstGeom prst="rect">
            <a:avLst/>
          </a:prstGeom>
          <a:ln w="9525">
            <a:noFill/>
          </a:ln>
        </p:spPr>
      </p:pic>
      <p:sp>
        <p:nvSpPr>
          <p:cNvPr id="175" name="Rektangel 5"/>
          <p:cNvSpPr/>
          <p:nvPr/>
        </p:nvSpPr>
        <p:spPr>
          <a:xfrm>
            <a:off x="4867200" y="1300320"/>
            <a:ext cx="4105080" cy="161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Välj anbud från konsulter med tillräckliga erfarenheter, kvalifikationer och resurser för att säkerställa ett gott utförande av projek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ktangel 6"/>
          <p:cNvSpPr/>
          <p:nvPr/>
        </p:nvSpPr>
        <p:spPr>
          <a:xfrm>
            <a:off x="4867200" y="4071960"/>
            <a:ext cx="407484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Fastställ det ekonomiskt mest fördelaktiga anbud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Eventuellt lägsta p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35"/>
          <p:cNvGrpSpPr/>
          <p:nvPr/>
        </p:nvGrpSpPr>
        <p:grpSpPr>
          <a:xfrm>
            <a:off x="8001000" y="0"/>
            <a:ext cx="1142640" cy="6857640"/>
            <a:chOff x="8001000" y="0"/>
            <a:chExt cx="1142640" cy="6857640"/>
          </a:xfrm>
        </p:grpSpPr>
        <p:pic>
          <p:nvPicPr>
            <p:cNvPr id="178" name="Picture 33" descr="Bara_K"/>
            <p:cNvPicPr/>
            <p:nvPr/>
          </p:nvPicPr>
          <p:blipFill>
            <a:blip r:embed="rId1"/>
            <a:srcRect l="81753" t="2126" r="0" b="2126"/>
            <a:stretch/>
          </p:blipFill>
          <p:spPr>
            <a:xfrm>
              <a:off x="8001000" y="0"/>
              <a:ext cx="114264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79" name="Picture 34" descr="Belok_Trade2"/>
            <p:cNvPicPr/>
            <p:nvPr/>
          </p:nvPicPr>
          <p:blipFill>
            <a:blip r:embed="rId2"/>
            <a:srcRect l="0" t="0" r="0" b="20133"/>
            <a:stretch/>
          </p:blipFill>
          <p:spPr>
            <a:xfrm>
              <a:off x="8175600" y="6205680"/>
              <a:ext cx="780840" cy="21384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24080" y="533520"/>
            <a:ext cx="693396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Ett förfrågningsunderlag ska innehålla åtminstone</a:t>
            </a:r>
            <a:br>
              <a:rPr sz="3200"/>
            </a:b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ktangel 5"/>
          <p:cNvSpPr/>
          <p:nvPr/>
        </p:nvSpPr>
        <p:spPr>
          <a:xfrm>
            <a:off x="1666800" y="1300320"/>
            <a:ext cx="7038720" cy="496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1. </a:t>
            </a:r>
            <a:r>
              <a:rPr b="0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krav på leverantören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– leverantörens ekonomiska ställning, tekniska- och yrkesmässiga kapaci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2.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kravspecifikation / uppdragsbeskriv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t.ex. tekniska specifikati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3.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utvärderingsgrund</a:t>
            </a:r>
            <a:r>
              <a:rPr b="1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– lägsta pris eller det ekonomiskt mest fördelaktiga anbudet. Utvärderingskrite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4.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kommersiella villkor som ska gälla under avtalsperioden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- t.ex. betalnings- och leveransvillk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5.</a:t>
            </a:r>
            <a:r>
              <a:rPr b="1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administrativa bestämmelser för upphandlingen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- (t.ex. upphandlingsförfarande, sista anbudsdag och anbudets giltighetst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i="1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En upphandlande enhet får även ställa särskilda krav på hur kontraktet ska fullgöras, sådana krav kan avse t.ex. sociala hänsyn och miljöhänsy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4080" y="905040"/>
            <a:ext cx="5352840" cy="342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sv-SE" sz="3200" spc="-1" strike="noStrike">
                <a:solidFill>
                  <a:srgbClr val="002060"/>
                </a:solidFill>
                <a:latin typeface="Tahoma"/>
              </a:rPr>
              <a:t>Steg 1 - Kvalifikation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sv-SE" sz="3200" spc="-1" strike="noStrike">
                <a:solidFill>
                  <a:srgbClr val="002060"/>
                </a:solidFill>
                <a:latin typeface="Tahoma"/>
              </a:rPr>
              <a:t>Steg 2 - Utvärdering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MCj04352780000[1]"/>
          <p:cNvPicPr/>
          <p:nvPr/>
        </p:nvPicPr>
        <p:blipFill>
          <a:blip r:embed="rId1"/>
          <a:stretch/>
        </p:blipFill>
        <p:spPr>
          <a:xfrm>
            <a:off x="1773360" y="4532400"/>
            <a:ext cx="3039840" cy="210960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3" descr="C:\Users\Administratör\AppData\Local\Microsoft\Windows\Temporary Internet Files\Content.IE5\ST2RBHM2\MC900055113[1].wmf"/>
          <p:cNvPicPr/>
          <p:nvPr/>
        </p:nvPicPr>
        <p:blipFill>
          <a:blip r:embed="rId2"/>
          <a:stretch/>
        </p:blipFill>
        <p:spPr>
          <a:xfrm>
            <a:off x="1562040" y="1417680"/>
            <a:ext cx="2639520" cy="1793520"/>
          </a:xfrm>
          <a:prstGeom prst="rect">
            <a:avLst/>
          </a:prstGeom>
          <a:ln w="9525">
            <a:noFill/>
          </a:ln>
        </p:spPr>
      </p:pic>
      <p:sp>
        <p:nvSpPr>
          <p:cNvPr id="117" name="Rektangel 5"/>
          <p:cNvSpPr/>
          <p:nvPr/>
        </p:nvSpPr>
        <p:spPr>
          <a:xfrm>
            <a:off x="4848120" y="1862280"/>
            <a:ext cx="399060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2060"/>
                </a:solidFill>
                <a:latin typeface="Tahoma"/>
              </a:rPr>
              <a:t>Erfarenhet, kvalifikationer och resurser för att säkerställa ett gott utförande av projek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ktangel 6"/>
          <p:cNvSpPr/>
          <p:nvPr/>
        </p:nvSpPr>
        <p:spPr>
          <a:xfrm>
            <a:off x="5048280" y="4614840"/>
            <a:ext cx="360972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2060"/>
                </a:solidFill>
                <a:latin typeface="Tahoma"/>
              </a:rPr>
              <a:t>Kriterier för det ekonomiskt mest fördelaktiga anbud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2060"/>
                </a:solidFill>
                <a:latin typeface="Tahoma"/>
              </a:rPr>
              <a:t>(evt. lägsta p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ktangel 6"/>
          <p:cNvSpPr/>
          <p:nvPr/>
        </p:nvSpPr>
        <p:spPr>
          <a:xfrm>
            <a:off x="2840760" y="19080"/>
            <a:ext cx="37778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4400" spc="-1" strike="noStrike">
                <a:solidFill>
                  <a:srgbClr val="000000"/>
                </a:solidFill>
                <a:latin typeface="Tahoma"/>
              </a:rPr>
              <a:t>Vem vinne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3960" y="2570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LOU 12 kap § 1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05000" y="1905120"/>
            <a:ext cx="7702200" cy="4381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sv-SE" sz="2800" spc="-1" strike="noStrike">
                <a:solidFill>
                  <a:srgbClr val="002060"/>
                </a:solidFill>
                <a:latin typeface="Tahoma"/>
              </a:rPr>
              <a:t>En upphandlande myndighet skall anta antingen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0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1. 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det anbud som är det ekonomiskt mest 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fördelaktiga, eller</a:t>
            </a:r>
            <a:br>
              <a:rPr sz="2800"/>
            </a:b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2. 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det anbud som innehåller det lägsta 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priset.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534440" y="189000"/>
            <a:ext cx="13856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19320" y="2038320"/>
            <a:ext cx="7924320" cy="420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sv-SE" sz="2800" spc="-1" strike="noStrike">
                <a:solidFill>
                  <a:srgbClr val="002060"/>
                </a:solidFill>
                <a:latin typeface="Tahoma"/>
              </a:rPr>
              <a:t>Ekonomiskt mest fördelaktiga enligt 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kriterier som är kopplade till föremålet för kontraktet:</a:t>
            </a:r>
            <a:r>
              <a:rPr b="0" lang="sv-SE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sv-SE" sz="2400" spc="-1" strike="noStrike">
                <a:solidFill>
                  <a:srgbClr val="002060"/>
                </a:solidFill>
                <a:latin typeface="Tahoma"/>
              </a:rPr>
              <a:t>pris, leverans- eller genomförandetid, miljöegenskaper, driftkostnader, kostnadseffektivitet, kvalitet, estetiska, funktionella och tekniska egenskaper, service och tekniskt stöd.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23960" y="25704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LOU 12 kap §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34440" y="189000"/>
            <a:ext cx="13856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447200" y="3113280"/>
            <a:ext cx="7200720" cy="1559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sv-SE" sz="3200" spc="-1" strike="noStrike">
                <a:solidFill>
                  <a:srgbClr val="002060"/>
                </a:solidFill>
                <a:latin typeface="Tahoma"/>
              </a:rPr>
              <a:t>Den upphandlande myndigheten skall ange hur kriterierna kommer att viktas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723960" y="2570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LOU 12 kap § 1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534440" y="189000"/>
            <a:ext cx="13856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ruta 4"/>
          <p:cNvSpPr/>
          <p:nvPr/>
        </p:nvSpPr>
        <p:spPr>
          <a:xfrm>
            <a:off x="1495440" y="1052640"/>
            <a:ext cx="76482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Krite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a1a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Pris (viktas 0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a1a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Tekniska fördelar (viktas 0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ruta 5"/>
          <p:cNvSpPr/>
          <p:nvPr/>
        </p:nvSpPr>
        <p:spPr>
          <a:xfrm>
            <a:off x="1762200" y="247680"/>
            <a:ext cx="6533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Exempel på utvä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ktangel 5"/>
          <p:cNvSpPr/>
          <p:nvPr/>
        </p:nvSpPr>
        <p:spPr>
          <a:xfrm>
            <a:off x="1514520" y="3102120"/>
            <a:ext cx="6953040" cy="332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Betygsätt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2238480"/>
                <a:tab algn="l" pos="5648400"/>
                <a:tab algn="l" pos="574344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Pris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över 420 000 kr 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0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400 000 till 420 000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1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380 000 till 399 999 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2 p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under 380 000 kr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3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38480"/>
                <a:tab algn="l" pos="5648400"/>
                <a:tab algn="l" pos="5743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2238480"/>
                <a:tab algn="l" pos="5648400"/>
                <a:tab algn="l" pos="574344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Tekniska förde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82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Inga ”börkrav” uppfyllda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0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82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Minoritet av ”börkrav” uppf.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1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82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Stor del av ”börkrav” uppf.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2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82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Alla, eller nästan alla, uppf.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3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ruta 5"/>
          <p:cNvSpPr/>
          <p:nvPr/>
        </p:nvSpPr>
        <p:spPr>
          <a:xfrm>
            <a:off x="1762200" y="247680"/>
            <a:ext cx="6533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Exempel på utvä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ktangel 5"/>
          <p:cNvSpPr/>
          <p:nvPr/>
        </p:nvSpPr>
        <p:spPr>
          <a:xfrm>
            <a:off x="1514520" y="1406520"/>
            <a:ext cx="6953040" cy="240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Två kvalificerade anb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A – pris 379 000 kr, minoritet av ”bör-kraven” uppfyl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B – Pris 390 000 kr, stor del av ”bör-kraven” uppfyl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ktangel 6"/>
          <p:cNvSpPr/>
          <p:nvPr/>
        </p:nvSpPr>
        <p:spPr>
          <a:xfrm>
            <a:off x="1590840" y="4121280"/>
            <a:ext cx="6953040" cy="240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Poä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0,7 * 3 + 0,3 * 1 = 2,1 + 0,3 =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54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0,7 * 2 + 0,3 * 2 = 1,4 + 0,6 =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upp 21"/>
          <p:cNvGrpSpPr/>
          <p:nvPr/>
        </p:nvGrpSpPr>
        <p:grpSpPr>
          <a:xfrm>
            <a:off x="2857680" y="4057560"/>
            <a:ext cx="5038200" cy="1333080"/>
            <a:chOff x="2857680" y="4057560"/>
            <a:chExt cx="5038200" cy="1333080"/>
          </a:xfrm>
        </p:grpSpPr>
        <p:sp>
          <p:nvSpPr>
            <p:cNvPr id="138" name="Ellips 5"/>
            <p:cNvSpPr/>
            <p:nvPr/>
          </p:nvSpPr>
          <p:spPr>
            <a:xfrm>
              <a:off x="3228840" y="4952880"/>
              <a:ext cx="313920" cy="418680"/>
            </a:xfrm>
            <a:prstGeom prst="ellipse">
              <a:avLst/>
            </a:prstGeom>
            <a:noFill/>
            <a:ln w="381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sv-SE" sz="24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139" name="Ellips 7"/>
            <p:cNvSpPr/>
            <p:nvPr/>
          </p:nvSpPr>
          <p:spPr>
            <a:xfrm>
              <a:off x="4452840" y="4971960"/>
              <a:ext cx="313920" cy="418680"/>
            </a:xfrm>
            <a:prstGeom prst="ellipse">
              <a:avLst/>
            </a:prstGeom>
            <a:noFill/>
            <a:ln w="381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sv-SE" sz="24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cxnSp>
          <p:nvCxnSpPr>
            <p:cNvPr id="140" name="Rak 9"/>
            <p:cNvCxnSpPr/>
            <p:nvPr/>
          </p:nvCxnSpPr>
          <p:spPr>
            <a:xfrm flipV="1">
              <a:off x="3404880" y="4419360"/>
              <a:ext cx="72000" cy="53388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  <p:cxnSp>
          <p:nvCxnSpPr>
            <p:cNvPr id="141" name="Rak 10"/>
            <p:cNvCxnSpPr/>
            <p:nvPr/>
          </p:nvCxnSpPr>
          <p:spPr>
            <a:xfrm flipV="1">
              <a:off x="4619520" y="4448160"/>
              <a:ext cx="71640" cy="53352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  <p:sp>
          <p:nvSpPr>
            <p:cNvPr id="142" name="textruta 11"/>
            <p:cNvSpPr/>
            <p:nvPr/>
          </p:nvSpPr>
          <p:spPr>
            <a:xfrm>
              <a:off x="2857680" y="4057560"/>
              <a:ext cx="1752120" cy="363960"/>
            </a:xfrm>
            <a:prstGeom prst="rect">
              <a:avLst/>
            </a:prstGeom>
            <a:noFill/>
            <a:ln w="381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sv-SE" sz="1800" spc="-1" strike="noStrike">
                  <a:solidFill>
                    <a:srgbClr val="ff0000"/>
                  </a:solidFill>
                  <a:latin typeface="Arial"/>
                </a:rPr>
                <a:t>Poäng för p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ruta 12"/>
            <p:cNvSpPr/>
            <p:nvPr/>
          </p:nvSpPr>
          <p:spPr>
            <a:xfrm>
              <a:off x="4695840" y="4095720"/>
              <a:ext cx="3200040" cy="363960"/>
            </a:xfrm>
            <a:prstGeom prst="rect">
              <a:avLst/>
            </a:prstGeom>
            <a:noFill/>
            <a:ln w="381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sv-SE" sz="1800" spc="-1" strike="noStrike">
                  <a:solidFill>
                    <a:srgbClr val="ff0000"/>
                  </a:solidFill>
                  <a:latin typeface="Arial"/>
                </a:rPr>
                <a:t>Poäng för tekniska förd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upp 22"/>
          <p:cNvGrpSpPr/>
          <p:nvPr/>
        </p:nvGrpSpPr>
        <p:grpSpPr>
          <a:xfrm>
            <a:off x="2571840" y="4971960"/>
            <a:ext cx="2247480" cy="954720"/>
            <a:chOff x="2571840" y="4971960"/>
            <a:chExt cx="2247480" cy="954720"/>
          </a:xfrm>
        </p:grpSpPr>
        <p:sp>
          <p:nvSpPr>
            <p:cNvPr id="145" name="Ellips 13"/>
            <p:cNvSpPr/>
            <p:nvPr/>
          </p:nvSpPr>
          <p:spPr>
            <a:xfrm>
              <a:off x="2571840" y="4971960"/>
              <a:ext cx="523440" cy="447480"/>
            </a:xfrm>
            <a:prstGeom prst="ellipse">
              <a:avLst/>
            </a:prstGeom>
            <a:noFill/>
            <a:ln w="38100">
              <a:solidFill>
                <a:srgbClr val="00cc99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sv-SE" sz="24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146" name="Ellips 14"/>
            <p:cNvSpPr/>
            <p:nvPr/>
          </p:nvSpPr>
          <p:spPr>
            <a:xfrm>
              <a:off x="3772080" y="4991040"/>
              <a:ext cx="523440" cy="447480"/>
            </a:xfrm>
            <a:prstGeom prst="ellipse">
              <a:avLst/>
            </a:prstGeom>
            <a:noFill/>
            <a:ln w="38100">
              <a:solidFill>
                <a:srgbClr val="00cc99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sv-SE" sz="24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147" name="textruta 15"/>
            <p:cNvSpPr/>
            <p:nvPr/>
          </p:nvSpPr>
          <p:spPr>
            <a:xfrm>
              <a:off x="4114800" y="5562720"/>
              <a:ext cx="704520" cy="363960"/>
            </a:xfrm>
            <a:prstGeom prst="rect">
              <a:avLst/>
            </a:prstGeom>
            <a:noFill/>
            <a:ln w="38100">
              <a:solidFill>
                <a:srgbClr val="00cc99">
                  <a:lumMod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sv-SE" sz="1800" spc="-1" strike="noStrike">
                  <a:solidFill>
                    <a:schemeClr val="accent1">
                      <a:lumMod val="50000"/>
                    </a:schemeClr>
                  </a:solidFill>
                  <a:latin typeface="Arial"/>
                </a:rPr>
                <a:t>Vik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Rak 16"/>
            <p:cNvCxnSpPr>
              <a:endCxn id="145" idx="5"/>
            </p:cNvCxnSpPr>
            <p:nvPr/>
          </p:nvCxnSpPr>
          <p:spPr>
            <a:xfrm flipH="1" flipV="1">
              <a:off x="3019320" y="5354280"/>
              <a:ext cx="1090800" cy="437040"/>
            </a:xfrm>
            <a:prstGeom prst="straightConnector1">
              <a:avLst/>
            </a:prstGeom>
            <a:ln w="38100">
              <a:solidFill>
                <a:srgbClr val="00cc99">
                  <a:lumMod val="50000"/>
                </a:srgbClr>
              </a:solidFill>
              <a:round/>
            </a:ln>
          </p:spPr>
        </p:cxnSp>
        <p:cxnSp>
          <p:nvCxnSpPr>
            <p:cNvPr id="149" name="Rak 18"/>
            <p:cNvCxnSpPr>
              <a:endCxn id="146" idx="4"/>
            </p:cNvCxnSpPr>
            <p:nvPr/>
          </p:nvCxnSpPr>
          <p:spPr>
            <a:xfrm flipH="1" flipV="1">
              <a:off x="4033800" y="5438520"/>
              <a:ext cx="52560" cy="343440"/>
            </a:xfrm>
            <a:prstGeom prst="straightConnector1">
              <a:avLst/>
            </a:prstGeom>
            <a:ln w="38100">
              <a:solidFill>
                <a:srgbClr val="00cc99">
                  <a:lumMod val="50000"/>
                </a:srgbClr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ruta 5"/>
          <p:cNvSpPr/>
          <p:nvPr/>
        </p:nvSpPr>
        <p:spPr>
          <a:xfrm>
            <a:off x="1762200" y="247680"/>
            <a:ext cx="6533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Exempel på utvä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ktangel 5"/>
          <p:cNvSpPr/>
          <p:nvPr/>
        </p:nvSpPr>
        <p:spPr>
          <a:xfrm>
            <a:off x="1514520" y="1092240"/>
            <a:ext cx="69530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Om vi istället viktar pris och teknik l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ktangel 6"/>
          <p:cNvSpPr/>
          <p:nvPr/>
        </p:nvSpPr>
        <p:spPr>
          <a:xfrm>
            <a:off x="1581120" y="2397240"/>
            <a:ext cx="6953040" cy="240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Poä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0,5 * 3 + 0,5 * 1 = 1,5 + 0,5 =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54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0,5 * 2 + 0,5 * 2 = 1,0 + 1,0 =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s\Administratör\AppData\Local\Microsoft\Windows\Temporary Internet Files\Content.IE5\YMIV2BJA\MC900434411[1].wmf"/>
          <p:cNvPicPr/>
          <p:nvPr/>
        </p:nvPicPr>
        <p:blipFill>
          <a:blip r:embed="rId1"/>
          <a:stretch/>
        </p:blipFill>
        <p:spPr>
          <a:xfrm>
            <a:off x="7216920" y="4648320"/>
            <a:ext cx="162540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Standardformgivning">
  <a:themeElements>
    <a:clrScheme name="Standardformgivning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tandardformgivning">
  <a:themeElements>
    <a:clrScheme name="Standardformgivning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31</Words>
  <Paragraphs>1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1:40:32Z</dcterms:created>
  <dc:creator>Lars Ekberg</dc:creator>
  <dc:description/>
  <dc:language>en-US</dc:language>
  <cp:lastModifiedBy>rickard.waern</cp:lastModifiedBy>
  <dcterms:modified xsi:type="dcterms:W3CDTF">2013-11-05T07:47:36Z</dcterms:modified>
  <cp:revision>486</cp:revision>
  <dc:subject/>
  <dc:title>PowerPoint-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