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C6E-2460-4C88-90DF-45FA904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8DC-9BE7-4E3F-B613-CE3AA5A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557-01AA-4168-AE22-AA439B2F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561-64F6-4553-B85D-42D5939D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D8E-A1CC-48D2-AB05-B9D484D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534-A846-457B-81DC-32DF999B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A48-DEB3-4CFB-B7D0-004CB3C6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A40-D62A-4033-83F0-10ED8DDA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3FC-7E74-4393-AE5F-FF61BCF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323-9846-416D-9F24-0F21703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2EF-9F43-4F28-93B7-399C00BC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93E-330E-4F12-8151-7B06FEDD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0EC5-C217-4A26-AE03-529A93C56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02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Garamond"/>
              </a:rPr>
              <a:t>Energieffektiv belysning i flerbostadsh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Examensarbete 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Karolina Mart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Högskolan Dal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Vår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Garamond"/>
              </a:rPr>
              <a:t>Kobbarnas väg</a:t>
            </a:r>
            <a:br>
              <a:rPr sz="2800"/>
            </a:b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Trappo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628640"/>
            <a:ext cx="7925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Energitäthet efter belysningsren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773360"/>
          <a:ext cx="45007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5007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Brunnsgatan: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29,86 kWh/m</a:t>
            </a:r>
            <a:r>
              <a:rPr b="0" lang="sv-SE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/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Brf. Jak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25 kWh /m</a:t>
            </a:r>
            <a:r>
              <a:rPr b="0" lang="sv-SE" sz="28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/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Kobbarnas vä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7,6 kWh/m</a:t>
            </a:r>
            <a:r>
              <a:rPr b="0" lang="sv-SE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Garamond"/>
              </a:rPr>
              <a:t>/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 u="sng">
                <a:solidFill>
                  <a:srgbClr val="333399"/>
                </a:solidFill>
                <a:uFillTx/>
                <a:latin typeface="Garamond"/>
              </a:rPr>
              <a:t>Slutsatser från luxmätninga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Alla de uppmätta husen uppvisar låga luxvärden i trappo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Man installerar ofta fler armaturer i de horisontella planen än i trappo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Fina resultat i energisparande </a:t>
            </a:r>
            <a:r>
              <a:rPr b="1" i="1" lang="sv-SE" sz="3200" spc="-1" strike="noStrike">
                <a:solidFill>
                  <a:srgbClr val="000000"/>
                </a:solidFill>
                <a:latin typeface="Garamond"/>
              </a:rPr>
              <a:t>kan</a:t>
            </a:r>
            <a:r>
              <a:rPr b="1" lang="sv-SE" sz="3200" spc="-1" strike="noStrike">
                <a:solidFill>
                  <a:srgbClr val="000000"/>
                </a:solidFill>
                <a:latin typeface="Garamond"/>
              </a:rPr>
              <a:t> dölja för låga värden på belysningsstyr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t är inte bara dynamisk belysningsstyrning med akustisk närvarosensor som kan erbjuda ett helt upptänt trapphus innan man går 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Garamond"/>
              </a:rPr>
              <a:t>Bakgrun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 Sverige används ca 14 TWh el till belysning varje år (10% av totala elanvändn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 ett flerbostadshus står belysning inne och ute för drygt 20% av de totala eldriftkostna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ängden flerbostadshus i landet gör att energivinsten kan bli stor om fler installerar energieffektiva alternat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Ett ”gott exempel” är en belysningsanläggning som: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Uppvisar en belysningsstyrka som uppfyller Energimyndighetens kra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Tar hänsyn till lokalens möjligheter och begränsnin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Tar hänsyn till de boendes önskemål om trygg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Lyser upp lokalen på energieffektivaste sä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ed minsta möjliga installerade eff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 Med kortast möjliga driftt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549000"/>
            <a:ext cx="6400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333399"/>
                </a:solidFill>
                <a:latin typeface="Garamond"/>
              </a:rPr>
              <a:t>-Utbildning för energi- och klimatrådgivare för ökad kompetens.</a:t>
            </a: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333399"/>
                </a:solidFill>
                <a:latin typeface="Garamond"/>
              </a:rPr>
              <a:t>-Inspirera och motivera till energieffektivisering av flerbostadshus.</a:t>
            </a: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333399"/>
                </a:solidFill>
                <a:latin typeface="Garamond"/>
              </a:rPr>
              <a:t> -Skapa kriterier för                   ”goda exempe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Dynamisk belysningssty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Fördelar med dynamisk belysningssty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Anpassar sig efter verksamheten i lok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Lägre arbetstemperatur i armaturerna ger en ökad livsläng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inskat antal tändningar med kallstart ger en längre livslängd på ljuskällo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öjligt att spara 20-25 % under dri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 u="sng">
                <a:solidFill>
                  <a:srgbClr val="333399"/>
                </a:solidFill>
                <a:uFillTx/>
                <a:latin typeface="Garamond"/>
              </a:rPr>
              <a:t>Fördelar med akustisk närvarodetekt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Man skall aldrig behöva gå in i ett mörkt trapph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-Närvaron detekteras runt hörn och skymda skryms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Garamond"/>
              </a:rPr>
              <a:t>Måndagsdygn på Brunnsgatan</a:t>
            </a:r>
            <a:br>
              <a:rPr sz="4000"/>
            </a:b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Dynamisk styrning med akustisk närvaro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ild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038840" cy="3751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316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n måndagsnattstim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00.00-01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ild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64000" cy="3659040"/>
          </a:xfrm>
          <a:prstGeom prst="rect">
            <a:avLst/>
          </a:prstGeom>
          <a:ln w="0">
            <a:noFill/>
          </a:ln>
        </p:spPr>
      </p:pic>
      <p:pic>
        <p:nvPicPr>
          <p:cNvPr id="56" name="Bild 5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32120" cy="23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364000" y="4208400"/>
            <a:ext cx="280836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Garamond"/>
              </a:rPr>
              <a:t>Slutsatser från Brunnsgat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0%-ig energibesp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 del av besparingen beror på underdimensionering av belysningsstyr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tt mäta är att vet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stering av anläggningen bör göras av kunnig inom dynamisk belys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kustisk styrning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kan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vara en för känslig detektering i kringbyggda hus i storstadsmilj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ktigt att belysningen i första hand lever upp till kraven på belysningsstyrk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Garamond"/>
              </a:rPr>
              <a:t>Brf. Jakten Våningsplan</a:t>
            </a:r>
            <a:br>
              <a:rPr sz="3600"/>
            </a:br>
            <a:r>
              <a:rPr b="1" lang="sv-SE" sz="2800" spc="-1" strike="noStrike">
                <a:solidFill>
                  <a:srgbClr val="000000"/>
                </a:solidFill>
                <a:latin typeface="Garamond"/>
              </a:rPr>
              <a:t>Närvarosensor i varannan arm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9057" t="9631" r="0" b="48907"/>
          <a:stretch/>
        </p:blipFill>
        <p:spPr>
          <a:xfrm>
            <a:off x="900000" y="1628640"/>
            <a:ext cx="806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 u="sng">
                <a:solidFill>
                  <a:srgbClr val="333399"/>
                </a:solidFill>
                <a:uFillTx/>
                <a:latin typeface="Garamond"/>
              </a:rPr>
              <a:t>Slutsatser från Brf. Jak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0%-ig energibesp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ändig grundbelysning kan stå för 90% av energianvändn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0%-ig grundbelysning avser belysningsstyrkan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ej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nergianvändn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5:45:42Z</dcterms:created>
  <dc:creator>jonass</dc:creator>
  <dc:description/>
  <dc:language>en-US</dc:language>
  <cp:lastModifiedBy>jonass</cp:lastModifiedBy>
  <dcterms:modified xsi:type="dcterms:W3CDTF">2012-09-12T09:51:44Z</dcterms:modified>
  <cp:revision>6</cp:revision>
  <dc:subject/>
  <dc:title>Bild 1</dc:title>
</cp:coreProperties>
</file>