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Img"/>
          </p:nvPr>
        </p:nvSpPr>
        <p:spPr>
          <a:xfrm>
            <a:off x="645840" y="744120"/>
            <a:ext cx="5376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sldNum" idx="2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BA8D-4DDA-4729-8A87-6D7F03DC059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000000"/>
                </a:solidFill>
                <a:uFillTx/>
                <a:latin typeface="Calibri"/>
              </a:rPr>
              <a:t>Stik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Frem til 2015 er det særligt inden for fem hovedspor, at Aarhus Kommunes indsats kan gøre en forsk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om det ses, har hvert af de fire første hovedspor en konkret effekt – som tilsammen understøtter det femte hovedspor med fokus på K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e fem spor er valgt ud fra, hvor vi forventer størst effekt, størst mulighed for indflydelse, bedst sammenhæng mellem spor og størst  synergi til de aktiviteter, som i forvejen er i g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Under hvert hovedspor er der en række projekter, der er illustreret 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dsholder til dias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C0D-9A2A-41BC-9930-97759D498121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07EC-A4B9-4044-9B0E-47E64D54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3835-F05F-4D12-A0D9-57C447F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D806-1210-4735-9162-EE4DE296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2E5A-F6CC-43F7-B968-3D9787D9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BAA7-2EBC-428F-B212-5B3C019E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49B90-E542-4E61-AEB7-D10C8EB3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C500-3BE2-4335-86CA-3C76A3F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443A-64F0-4FE2-A622-068B917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241C3-DC20-45D4-A315-B1B9BCC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DF46F-5725-4534-AF02-B53C03B8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EC88-F303-4DA0-82F9-C313E68D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DC01C-95E5-4F36-84CA-D95DBA97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1F0C2-D421-4346-876B-D40FF91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76099-5CC0-422C-98CC-31F6B0C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0BC4-707B-4E8C-AB94-79A5CDF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495AF-F190-4E23-B9F0-F3F8B7F2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6C34B-85A8-4A79-A89B-EF5E023A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069AC-2F2F-453A-8FF4-CC23C3D9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3CEBD-1551-4397-BE63-46881783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8A2D4-7781-465E-9D4C-86A4DC1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A1A76-EBC0-4BF2-B4DB-80ED827F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77DA-6C18-468A-8665-3CBC571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7334E-E49C-428A-80E6-AF94F948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16670-9B68-435F-9C10-8E2DA7B1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A22AA-B0E3-48D9-82BB-1A5A1D9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76119-8E64-4E18-A486-3E0D7F7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79561-B61B-46CB-9562-77218D0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03515-5702-4882-B173-923B3CD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51CA4-2BCD-4F91-80DE-D87B71C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C833F-DB70-46CC-A046-298793F7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44FB8-E5D5-49E0-8207-220437EE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8C2EB-663F-410C-ABBB-7E623D5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6961-8128-4600-8940-449E002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D0E12-B248-429C-A46B-04375005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06180-58EC-4360-9CAB-B726F17B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EC71A-03D7-4013-B365-6A34D32F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210D8-316B-47CA-BAC7-11F61D1E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19489-159F-484F-AD70-74F45BC2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B1D10-0987-466F-B3AB-169FDA4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49920-0F9C-44B0-A6AD-8235ABE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5B60E-66D2-4F8C-999C-C824B6B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225A6-1233-4F6D-8AE1-DD96E897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A87E4-7C1B-47D3-8454-728EE767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9160-3FC1-43AB-A3A6-CB63F85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E289F-382B-4C84-AE26-5DCF08FE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B79DA-8C42-455A-A58D-44005E03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A981A-EDF9-4630-9755-05C32D4C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C6FF7-E3DB-422B-B62E-7FCAD90E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DF067-1603-4201-8AD0-C28021D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E7CAA-D9BA-4AA4-A847-45CCF0E9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2A141-82D4-41E9-8CA9-454BBB7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7C765-2FC4-4D9A-8C4E-8E8AAFC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255CF-D593-4709-8BF2-A158870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634B8-99F3-4E9C-A206-D2D82BF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5FE3-B558-4E02-8E2D-A945C445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EEAF0-FAD5-45A1-BB44-82F5C94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0A5EE-22C5-46DA-AD2C-8A3D65EF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9C87F-8318-4F5E-AF4C-30DCF8C9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631CD-AE61-43A2-AF2D-9846FABA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90308-7107-47E9-AC92-29778E31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37848-8B0D-412A-AB9C-08AFA80D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70A42-55C9-4568-AA78-E183B92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22504-7F52-4CBA-84E4-CAAFB81A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EA559-F285-48AF-854E-2D917CD0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AF399-CD65-46AF-819D-DF9AE13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970A-103F-4719-ADBC-DED16BB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76232-9175-4EED-94A1-38E3618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D0D26-128F-4C54-9783-DA26B51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16BE7-15A2-4902-B980-E9C96B2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B9193-168B-4E54-BE4D-E6A8B6A9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A6C04-0A70-4138-A4FF-0DAAD2A6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C2379-98F8-49EA-90C7-EB98D5E0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A1511-69EF-4CA4-8215-6BB53FE8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5F4E7-3627-4022-860F-B40DAF0C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5084F-70B6-44FE-A50E-8FA42F52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D366A-DE78-449A-B8B8-91EA671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D863-408E-4977-AAD4-6C784BC6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3B1F0-6713-4FF4-911D-8051D1EE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E6CB4-A3DD-4EFE-9AB8-C220DBB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7A573-0A53-4F63-B43A-771BEBC8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C9F11-9117-4492-9AAE-24D37D8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22DEB-FBFC-493D-9212-845AEC2E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E6D5E-7523-4123-897C-3A614834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36EA5-C1BF-46D6-B4C0-26BE6883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DAA-01FB-4EF4-A99D-26A7C176A9F4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8A29E44D-31B3-4BCF-8724-2A02B0F46792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47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Billede 9" descr="Image6.png"/>
          <p:cNvPicPr/>
          <p:nvPr/>
        </p:nvPicPr>
        <p:blipFill>
          <a:blip r:embed="rId3"/>
          <a:stretch/>
        </p:blipFill>
        <p:spPr>
          <a:xfrm>
            <a:off x="4952880" y="2997360"/>
            <a:ext cx="3600720" cy="231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90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boks 7"/>
          <p:cNvSpPr/>
          <p:nvPr/>
        </p:nvSpPr>
        <p:spPr>
          <a:xfrm>
            <a:off x="6610320" y="242100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Welcom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Billede 10" descr="Image6.png"/>
          <p:cNvPicPr/>
          <p:nvPr/>
        </p:nvPicPr>
        <p:blipFill>
          <a:blip r:embed="rId3"/>
          <a:stretch/>
        </p:blipFill>
        <p:spPr>
          <a:xfrm>
            <a:off x="4952880" y="2997360"/>
            <a:ext cx="3600720" cy="231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AED-573D-457A-BC1E-A18EEE3D5F09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5631782C-B497-4398-9157-1AA521400581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137" name="Rektangel 10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56A2-75A0-4125-B6DB-703E7C01E8F5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5A889DF0-8A50-4A57-BED8-51F8746E2DE4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182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Billede 7" descr="Image1.png"/>
          <p:cNvPicPr/>
          <p:nvPr/>
        </p:nvPicPr>
        <p:blipFill>
          <a:blip r:embed="rId3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5E9-899E-4308-BE65-ADF0C0417436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1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8AD91CF9-A757-421D-81CB-CE27E73EE1D2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228" name="Rektangel 10"/>
          <p:cNvSpPr/>
          <p:nvPr/>
        </p:nvSpPr>
        <p:spPr>
          <a:xfrm>
            <a:off x="0" y="0"/>
            <a:ext cx="9936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B69-EB7F-4EFD-BC9D-307F11A49515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4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17F1D02A-EE26-489F-A734-13B5AE05D4AC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5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273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115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kstboks 10"/>
          <p:cNvSpPr/>
          <p:nvPr/>
        </p:nvSpPr>
        <p:spPr>
          <a:xfrm>
            <a:off x="7126200" y="1268280"/>
            <a:ext cx="1427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Aarhus Kommu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Rådhuspladsen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Postboks 36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DK-8000 Aarhus 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T +45 8940 20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www.aarhus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Billede 19" descr="Image6.png"/>
          <p:cNvPicPr/>
          <p:nvPr/>
        </p:nvPicPr>
        <p:blipFill>
          <a:blip r:embed="rId3"/>
          <a:stretch/>
        </p:blipFill>
        <p:spPr>
          <a:xfrm>
            <a:off x="4952880" y="3414600"/>
            <a:ext cx="3600720" cy="23180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8DE-85BF-49C8-A567-6A2FB9433A61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7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DD6C-8EE1-4DB3-A029-EFCC6ACF9ABE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18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320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115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kstboks 10"/>
          <p:cNvSpPr/>
          <p:nvPr/>
        </p:nvSpPr>
        <p:spPr>
          <a:xfrm>
            <a:off x="7126200" y="1268280"/>
            <a:ext cx="1427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Aarhus Kommu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Rådhuspladsen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Postboks 36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DK-8000 Aarhus 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T +45 8940 20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www.aarhus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L:\DDB\PRUdvikling\#Layoutopgaver\Citybranding\Aarhus_navnetraek\Aarhus_Progress_negativ\PNG\Aarhus_Progress_negativ.png"/>
          <p:cNvPicPr/>
          <p:nvPr/>
        </p:nvPicPr>
        <p:blipFill>
          <a:blip r:embed="rId3"/>
          <a:stretch/>
        </p:blipFill>
        <p:spPr>
          <a:xfrm>
            <a:off x="4952880" y="3581280"/>
            <a:ext cx="3600720" cy="1216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2BE-1E75-4598-829C-C76955487D1C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0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65F-8A0F-4D59-A1A7-C53A2212F24C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1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dk/imgres?imgurl=http://payload.cargocollective.com/1/0/22522/263789/vestas_logo_905.jpg&amp;imgrefurl=http://www.megadesign.dk/263789/Vestas&amp;usg=__9P0XRyye9fTlePkZqop_YrpZSQ0=&amp;h=300&amp;w=782&amp;sz=36&amp;hl=da&amp;start=4&amp;zoom=1&amp;tbnid=xBNFwf7DEuJs8M:&amp;tbnh=55&amp;tbnw=143&amp;ei=InMhT7XaBfD74QS9voWWBQ&amp;prev=/search?q=vestas+logo&amp;um=1&amp;hl=da&amp;sa=N&amp;gbv=2&amp;tbm=isch&amp;um=1&amp;itb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dk/imgres?imgurl=http://www.logotypes101.com/files/377/037d3cd418e9b53adf46244bc8ec122e/lrg_Ikea.gif&amp;imgrefurl=http://www.logotypes101.com/free_vector_logo/35351/Ikea.aspx&amp;usg=__zLjKI22NFwplb7aSxh0ty67UNNo=&amp;h=300&amp;w=300&amp;sz=3&amp;hl=da&amp;start=10&amp;zoom=1&amp;tbnid=he0mM3-FpWJ4OM:&amp;tbnh=116&amp;tbnw=116&amp;ei=M3MhT7X2FsfU4QSq2cjKCA&amp;prev=/search?q=ikea+logo&amp;um=1&amp;hl=da&amp;sa=N&amp;gbv=2&amp;tbm=isch&amp;um=1&amp;itbs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dk/imgres?imgurl=http://www.nrgi.dk/files/nrgi.dk/NRGi%20Designguide/Logo/NRGi%20logo/JPG/NRGi_logo_v1_uden_payoff.jpg&amp;imgrefurl=http://www.nrgi.dk/om+nrgi/nrgi&apos;s+designguide/nrgi+logo&amp;usg=__l_NlNokPhL_9qfg_qPl2w0pyyg0=&amp;h=901&amp;w=1500&amp;sz=44&amp;hl=da&amp;start=1&amp;zoom=1&amp;tbnid=Al58_5zDKbHK0M:&amp;tbnh=90&amp;tbnw=150&amp;ei=Q3MhT9vKHcOH4gT9wojyBw&amp;prev=/search?q=NRGI+logo&amp;um=1&amp;hl=da&amp;sa=N&amp;gbv=2&amp;tbm=isch&amp;um=1&amp;itbs=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google.dk/imgres?imgurl=http://www.internshipsdownunder.com/images/partner-universities/VIA_logo.png&amp;imgrefurl=http://www.internshipsdownunder.com/partners&amp;usg=__Ki69HIHpaenTr0y3tBNCZyTMq1w=&amp;h=261&amp;w=754&amp;sz=78&amp;hl=da&amp;start=1&amp;zoom=1&amp;tbnid=YTwBzIT9Epf3mM:&amp;tbnh=49&amp;tbnw=142&amp;ei=UnMhT7K4NfPO4QT-xLHBCA&amp;prev=/search?q=VIA+university+college+logo&amp;um=1&amp;hl=da&amp;sa=N&amp;gbv=2&amp;tbm=isch&amp;um=1&amp;itbs=1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google.dk/imgres?imgurl=https://www.projektzone.dk/dokumenter/logo1291194314_AFP%20logo-1.jpg&amp;imgrefurl=https://www.projektzone.dk/print.php?id=39&amp;usg=__ZJGGxlvDWyHHGlLduw2m5R_p-Fw=&amp;h=436&amp;w=850&amp;sz=102&amp;hl=da&amp;start=1&amp;zoom=1&amp;tbnid=oME7r78ooWCEJM:&amp;tbnh=74&amp;tbnw=145&amp;ei=YXMhT6yFF8H34QS687WmCA&amp;prev=/search?q=agro+food+park+logo&amp;um=1&amp;hl=da&amp;sa=N&amp;gbv=2&amp;tbm=isch&amp;um=1&amp;itbs=1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www.google.dk/imgres?imgurl=http://www.hollandpropertyplaza.com/holpp/en/Uploads/grontmij/grontmij%20logo%20eps.jpg&amp;imgrefurl=http://www.hollandpropertyplaza.com/holpp/en/content/prikaz_membera_PMP.asp?mid=7&amp;usg=__v1HmchMMA8ZN3hgGInAo6Wh__Y8=&amp;h=67&amp;w=249&amp;sz=23&amp;hl=da&amp;start=4&amp;zoom=1&amp;tbnid=q2NTJLoftHv3IM:&amp;tbnh=30&amp;tbnw=111&amp;ei=dnMhT4W1NoaB4gTVqujKCA&amp;prev=/search?q=Grontmij+logo&amp;um=1&amp;hl=da&amp;sa=N&amp;gbv=2&amp;tbm=isch&amp;um=1&amp;itbs=1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www.google.dk/imgres?imgurl=http://www.ramboll-management.dk/~/media/Images/RM/RM%20DK%20and%20RM%20Group/Images/270x270/Ramboll_logo_270x270.ashx?bc=ffffff&amp;w=270&amp;h=&amp;as=1&amp;imgrefurl=http://www.ramboll-management.dk/news/viewnews?newsid=D418AAA0-D950-492D-B239-EB2A37B50B29&amp;usg=__bbt9DY0JRX43eCXfxjxMpleR7Fw=&amp;h=270&amp;w=270&amp;sz=26&amp;hl=da&amp;start=1&amp;zoom=1&amp;tbnid=2VGE7S_zNoNFzM:&amp;tbnh=113&amp;tbnw=113&amp;ei=hHMhT6LAIMr24QS_wLHZCA&amp;prev=/search?q=ramb&#248;ll+logo&amp;um=1&amp;hl=da&amp;sa=N&amp;gbv=2&amp;tbm=isch&amp;um=1&amp;itbs=1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www.google.dk/imgres?imgurl=http://www.incuba-sp.dk/files/incuba_logo_20070611.jpg&amp;imgrefurl=http://www.incuba-sp.dk/incuba-presse.asp&amp;usg=__p7nycPoTmI_TJGxvVA31XdP2Ckc=&amp;h=222&amp;w=253&amp;sz=18&amp;hl=da&amp;start=1&amp;zoom=1&amp;tbnid=eVmk8ADhCEzUBM:&amp;tbnh=97&amp;tbnw=111&amp;ei=k3MhT8i2I-OI4gS71P2zCA&amp;prev=/search?q=incuba+science+park+logo&amp;um=1&amp;hl=da&amp;sa=N&amp;gbv=2&amp;tbm=isch&amp;um=1&amp;itbs=1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google.dk/imgres?imgurl=http://www.top1000.dk/media/company/profile/1882/content/EnergiDanmark-logo.jpg&amp;imgrefurl=http://www.top1000.dk/challenge/om-os/presserum&amp;usg=___yGTGU-sPDnqi-8MxyaX5P68vY0=&amp;h=70&amp;w=180&amp;sz=23&amp;hl=da&amp;start=1&amp;zoom=1&amp;tbnid=0z5E_ZtAqFql2M:&amp;tbnh=39&amp;tbnw=101&amp;ei=r3MhT4WxDqak4gT1msjdCw&amp;prev=/search?q=energi+danmark+logo&amp;um=1&amp;hl=da&amp;sa=N&amp;gbv=2&amp;tbm=isch&amp;um=1&amp;itbs=1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hyperlink" Target="http://www.midttrafik.dk/" TargetMode="External"/><Relationship Id="rId21" Type="http://schemas.openxmlformats.org/officeDocument/2006/relationships/image" Target="../media/image19.jpeg"/><Relationship Id="rId22" Type="http://schemas.openxmlformats.org/officeDocument/2006/relationships/hyperlink" Target="http://www.google.dk/imgres?imgurl=http://www.abc-aalborg.dk/Sponsor/Store/Atea.jpg&amp;imgrefurl=http://www.abc-aalborg.dk/sponsor.asp&amp;usg=__XxI_kPcPyu1YswCLsDk7BrnV7l8=&amp;h=131&amp;w=500&amp;sz=47&amp;hl=da&amp;start=2&amp;zoom=1&amp;tbnid=Onz5SMv4QK9JYM:&amp;tbnh=34&amp;tbnw=130&amp;ei=NZMmT8XpF4nj4QSA7a36DA&amp;prev=/search?q=atea&amp;um=1&amp;hl=da&amp;sa=N&amp;gbv=2&amp;tbm=isch&amp;um=1&amp;itbs=1" TargetMode="External"/><Relationship Id="rId23" Type="http://schemas.openxmlformats.org/officeDocument/2006/relationships/image" Target="../media/image20.jpeg"/><Relationship Id="rId24" Type="http://schemas.openxmlformats.org/officeDocument/2006/relationships/hyperlink" Target="http://www.co2030.dk/da.aspx" TargetMode="External"/><Relationship Id="rId25" Type="http://schemas.openxmlformats.org/officeDocument/2006/relationships/image" Target="../media/image21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07800" y="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Klimapartnerska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Trippel Hel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Billede 3" descr="co2030_with_aarhus_rgb.png"/>
          <p:cNvPicPr/>
          <p:nvPr/>
        </p:nvPicPr>
        <p:blipFill>
          <a:blip r:embed="rId1"/>
          <a:stretch/>
        </p:blipFill>
        <p:spPr>
          <a:xfrm>
            <a:off x="1754280" y="1989000"/>
            <a:ext cx="6473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Lad os gentænke vores transportva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kstboks 7"/>
          <p:cNvSpPr/>
          <p:nvPr/>
        </p:nvSpPr>
        <p:spPr>
          <a:xfrm>
            <a:off x="1208160" y="2060640"/>
            <a:ext cx="7489800" cy="283716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behøver absolut ikke vente på, at kommuner stiller dyre infrastrukturløsninger til rådighed for 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I 2010 viste askeskyen over Nordeuropa, at en masse transport helt kunne undgås, ved at folk arbejdede hjemme eller afholdte videokonferenc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Så lad os starte med at gennemtænke vores transportadfærd og udnytte den eksisterende IT-teknologi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Michael S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Transportdirektør 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6" descr="http://di.dk/SiteCollectionImages/Presse/Pressebilleder%20ledelse/Michael%20Svane.jpg"/>
          <p:cNvPicPr/>
          <p:nvPr/>
        </p:nvPicPr>
        <p:blipFill>
          <a:blip r:embed="rId1"/>
          <a:stretch/>
        </p:blipFill>
        <p:spPr>
          <a:xfrm>
            <a:off x="6824520" y="4292640"/>
            <a:ext cx="2457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5800" y="709200"/>
            <a:ext cx="82803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ahoma"/>
                <a:ea typeface="Tahoma"/>
              </a:rPr>
              <a:t>Walk the tal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Æseløre 6"/>
          <p:cNvSpPr/>
          <p:nvPr/>
        </p:nvSpPr>
        <p:spPr>
          <a:xfrm>
            <a:off x="560520" y="1989000"/>
            <a:ext cx="2376360" cy="2880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Æseløre 7"/>
          <p:cNvSpPr/>
          <p:nvPr/>
        </p:nvSpPr>
        <p:spPr>
          <a:xfrm>
            <a:off x="3657600" y="1989000"/>
            <a:ext cx="2374920" cy="2880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Æseløre 10"/>
          <p:cNvSpPr/>
          <p:nvPr/>
        </p:nvSpPr>
        <p:spPr>
          <a:xfrm>
            <a:off x="6753240" y="1989000"/>
            <a:ext cx="2376360" cy="2880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kstboks 11"/>
          <p:cNvSpPr/>
          <p:nvPr/>
        </p:nvSpPr>
        <p:spPr>
          <a:xfrm>
            <a:off x="704880" y="2133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Calibri"/>
              </a:rPr>
              <a:t>Klimaplanen CO20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kstboks 12"/>
          <p:cNvSpPr/>
          <p:nvPr/>
        </p:nvSpPr>
        <p:spPr>
          <a:xfrm>
            <a:off x="3800520" y="213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Calibri"/>
              </a:rPr>
              <a:t>CS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kstboks 13"/>
          <p:cNvSpPr/>
          <p:nvPr/>
        </p:nvSpPr>
        <p:spPr>
          <a:xfrm>
            <a:off x="6897600" y="2133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Calibri"/>
              </a:rPr>
              <a:t>Personalepoliti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rcRect l="33300" t="14276" r="31602" b="5806"/>
          <a:stretch/>
        </p:blipFill>
        <p:spPr>
          <a:xfrm>
            <a:off x="1136520" y="2637000"/>
            <a:ext cx="1295640" cy="1844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rcRect l="31503" t="8518" r="29799" b="5806"/>
          <a:stretch/>
        </p:blipFill>
        <p:spPr>
          <a:xfrm>
            <a:off x="4160880" y="2565360"/>
            <a:ext cx="1404720" cy="1943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3"/>
          <a:srcRect l="30602" t="7914" r="28900" b="3523"/>
          <a:stretch/>
        </p:blipFill>
        <p:spPr>
          <a:xfrm>
            <a:off x="7256520" y="256536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Samarbejdsproce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kstboks 8"/>
          <p:cNvSpPr/>
          <p:nvPr/>
        </p:nvSpPr>
        <p:spPr>
          <a:xfrm>
            <a:off x="920880" y="177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otivation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Frustration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Commitment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Innovation …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ge forbindelse 6"/>
          <p:cNvSpPr/>
          <p:nvPr/>
        </p:nvSpPr>
        <p:spPr>
          <a:xfrm>
            <a:off x="2720880" y="4005360"/>
            <a:ext cx="17272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ge forbindelse 10"/>
          <p:cNvSpPr/>
          <p:nvPr/>
        </p:nvSpPr>
        <p:spPr>
          <a:xfrm>
            <a:off x="4448160" y="4005360"/>
            <a:ext cx="433440" cy="1295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ge forbindelse 12"/>
          <p:cNvSpPr/>
          <p:nvPr/>
        </p:nvSpPr>
        <p:spPr>
          <a:xfrm flipV="1">
            <a:off x="4881600" y="2781360"/>
            <a:ext cx="503280" cy="2519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ge forbindelse 14"/>
          <p:cNvSpPr/>
          <p:nvPr/>
        </p:nvSpPr>
        <p:spPr>
          <a:xfrm>
            <a:off x="5384160" y="2781360"/>
            <a:ext cx="73080" cy="503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ge forbindelse 16"/>
          <p:cNvSpPr/>
          <p:nvPr/>
        </p:nvSpPr>
        <p:spPr>
          <a:xfrm>
            <a:off x="5457960" y="3284640"/>
            <a:ext cx="431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kstboks 17"/>
          <p:cNvSpPr/>
          <p:nvPr/>
        </p:nvSpPr>
        <p:spPr>
          <a:xfrm>
            <a:off x="5961240" y="278136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Nedslag: Hvor står vi i da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1"/>
          <a:stretch/>
        </p:blipFill>
        <p:spPr>
          <a:xfrm>
            <a:off x="5168880" y="1916280"/>
            <a:ext cx="3024360" cy="3763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2"/>
          <a:stretch/>
        </p:blipFill>
        <p:spPr>
          <a:xfrm>
            <a:off x="1857240" y="1916280"/>
            <a:ext cx="2880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Et nyt mindset </a:t>
            </a:r>
            <a:br>
              <a:rPr sz="3600"/>
            </a:b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- morgendagens mobilite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992160" y="1989000"/>
          <a:ext cx="8497800" cy="4032360"/>
        </p:xfrm>
        <a:graphic>
          <a:graphicData uri="http://schemas.openxmlformats.org/drawingml/2006/table">
            <a:tbl>
              <a:tblPr/>
              <a:tblGrid>
                <a:gridCol w="4248000"/>
                <a:gridCol w="4249800"/>
              </a:tblGrid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Verdana"/>
                          <a:ea typeface="Calibri"/>
                        </a:rPr>
                        <a:t>I d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2c02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Verdana"/>
                          <a:ea typeface="Calibri"/>
                        </a:rPr>
                        <a:t>I mor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2c02f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redere ve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lere busba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ne i 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lere i 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iler på dies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iler på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op ad bak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op ad bakke - let med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s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c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ransport fra dør til dø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ombinationsrej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-pladser k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-pladser besp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Vi kører al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Vi kører sam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ørsel er spild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ørsel er kvalitets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 er forsin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ltid i bus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plan på tav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nk/App til Rejsepl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ser n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ser h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s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c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Perspekt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kstboks 4"/>
          <p:cNvSpPr/>
          <p:nvPr/>
        </p:nvSpPr>
        <p:spPr>
          <a:xfrm>
            <a:off x="1008360" y="1916280"/>
            <a:ext cx="514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De enkelte medarbejdere – nuværende og fremtid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Den enkelte virksomhed –  de 3 bundlinj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Virksomhederne – nuværende og fremtid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Erhvervsområdet – samarbejde og in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Ekspor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dsholder til diasnummer 4"/>
          <p:cNvSpPr/>
          <p:nvPr/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F404035B-871B-49FD-835B-EE9CF140593D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72880" y="188640"/>
            <a:ext cx="842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Strategiske hovedsp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Billede 3" descr="Strategiske Hovedspor.jpg"/>
          <p:cNvPicPr/>
          <p:nvPr/>
        </p:nvPicPr>
        <p:blipFill>
          <a:blip r:embed="rId1"/>
          <a:srcRect l="934" t="17473" r="0" b="12480"/>
          <a:stretch/>
        </p:blipFill>
        <p:spPr>
          <a:xfrm>
            <a:off x="1052640" y="1803240"/>
            <a:ext cx="82692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60160" y="691920"/>
            <a:ext cx="3354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Skejby i d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itel 9"/>
          <p:cNvSpPr/>
          <p:nvPr/>
        </p:nvSpPr>
        <p:spPr>
          <a:xfrm>
            <a:off x="5024520" y="692280"/>
            <a:ext cx="3354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Drøm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http://www.co2030.dk/~/media/Subsites/CO2030/Billeder/438x187---Undersider/438x200-Biler-i-koe.ashx"/>
          <p:cNvPicPr/>
          <p:nvPr/>
        </p:nvPicPr>
        <p:blipFill>
          <a:blip r:embed="rId1"/>
          <a:stretch/>
        </p:blipFill>
        <p:spPr>
          <a:xfrm>
            <a:off x="488880" y="2421000"/>
            <a:ext cx="4172040" cy="19047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http://www.co2030.dk/~/media/Subsites/CO2030/Billeder/438x187---Undersider/438x200Groenne-byrum.ashx"/>
          <p:cNvPicPr/>
          <p:nvPr/>
        </p:nvPicPr>
        <p:blipFill>
          <a:blip r:embed="rId2"/>
          <a:stretch/>
        </p:blipFill>
        <p:spPr>
          <a:xfrm>
            <a:off x="5097600" y="2421000"/>
            <a:ext cx="4176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60520" y="691920"/>
            <a:ext cx="41767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Energiforbrug</a:t>
            </a:r>
            <a:br>
              <a:rPr sz="4000"/>
            </a:b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Trængs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itel 9"/>
          <p:cNvSpPr/>
          <p:nvPr/>
        </p:nvSpPr>
        <p:spPr>
          <a:xfrm>
            <a:off x="5024520" y="692280"/>
            <a:ext cx="3354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Oplad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Frih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http://www.co2030.dk/~/media/Subsites/CO2030/Billeder/438x187---Undersider/438x200-Biler-i-koe.ashx"/>
          <p:cNvPicPr/>
          <p:nvPr/>
        </p:nvPicPr>
        <p:blipFill>
          <a:blip r:embed="rId1"/>
          <a:stretch/>
        </p:blipFill>
        <p:spPr>
          <a:xfrm>
            <a:off x="488880" y="2421000"/>
            <a:ext cx="4172040" cy="19047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http://www.co2030.dk/~/media/Subsites/CO2030/Billeder/438x187---Undersider/438x200Groenne-byrum.ashx"/>
          <p:cNvPicPr/>
          <p:nvPr/>
        </p:nvPicPr>
        <p:blipFill>
          <a:blip r:embed="rId2"/>
          <a:stretch/>
        </p:blipFill>
        <p:spPr>
          <a:xfrm>
            <a:off x="5097600" y="2421000"/>
            <a:ext cx="4176720" cy="1906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3800520" y="4797360"/>
            <a:ext cx="23526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De deltagende virksomhe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kstboks 8"/>
          <p:cNvSpPr/>
          <p:nvPr/>
        </p:nvSpPr>
        <p:spPr>
          <a:xfrm>
            <a:off x="6537240" y="27082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</a:rPr>
              <a:t>Projektafdelingen DN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http://t1.gstatic.com/images?q=tbn:ANd9GcSXwuoLISSzpE8Znz5i_yWDCgCnYQ8i-mpBoo6DQaYqv_bsqWSxrYkoV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4005360"/>
            <a:ext cx="1361880" cy="523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http://t2.gstatic.com/images?q=tbn:ANd9GcSHVAvXjucEInMp9QkJv_TPBke68dbdsLg7Ei3dPvjePQVP75IQ7FUIDc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9600" y="501336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http://t0.gstatic.com/images?q=tbn:ANd9GcTyNSfaT00Za5gijR0EX410ExDDkB4o0lFaslHUv3zB-Ba2DQm4Yved5XN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28880" y="234936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http://t1.gstatic.com/images?q=tbn:ANd9GcRPoa5mLyfo_TYswCcQ9ZPw4WlerIImJ6esnOaHT7DehCuuiAUy6m1FNT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2708280"/>
            <a:ext cx="1352520" cy="466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http://t3.gstatic.com/images?q=tbn:ANd9GcSbT2R0JLIKczF1Nq5y3H1MjJIz8-5ZCVIWAx4LLVzlBTxWKgYHE3j2DVq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4520" y="3573360"/>
            <a:ext cx="1380960" cy="704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" descr="http://t3.gstatic.com/images?q=tbn:ANd9GcQNkjNH8aLlj1zw0Bi4vlz0N7vVoQUpt_fvK-PEjCJViPtNyF7FUDq86Q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13240" y="2708280"/>
            <a:ext cx="1057320" cy="285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" descr="http://t0.gstatic.com/images?q=tbn:ANd9GcRKh2xAAEAsYiE5PQl4BpLLPkWVXJ7cHI-W_M28FUxX_7i_l8AFGU4HRw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84520" y="32846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6" descr="http://t0.gstatic.com/images?q=tbn:ANd9GcRMUeLSqxjzFSpHl151s6l_WZoaquv2YVrJbshZ5XCNvOCPtV3Ip2rrOHo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5800" y="2276640"/>
            <a:ext cx="1057320" cy="923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8" descr="http://t0.gstatic.com/images?q=tbn:ANd9GcQb9ER7IMtzyCEplZixNcOmuEYh3E1b42UlKuzhQMD34-DgQdWLCbwqlw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144880" y="3284640"/>
            <a:ext cx="961920" cy="371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2" descr="http://www.danorc.dk/?q=system/files/aarhusuniversitetshospitalauhv_eng_0.jpg&amp;1274384691"/>
          <p:cNvPicPr/>
          <p:nvPr/>
        </p:nvPicPr>
        <p:blipFill>
          <a:blip r:embed="rId19"/>
          <a:stretch/>
        </p:blipFill>
        <p:spPr>
          <a:xfrm>
            <a:off x="6537240" y="3284640"/>
            <a:ext cx="2016360" cy="736560"/>
          </a:xfrm>
          <a:prstGeom prst="rect">
            <a:avLst/>
          </a:prstGeom>
          <a:ln w="0">
            <a:noFill/>
          </a:ln>
        </p:spPr>
      </p:pic>
      <p:sp>
        <p:nvSpPr>
          <p:cNvPr id="478" name="Tekstboks 14"/>
          <p:cNvSpPr/>
          <p:nvPr/>
        </p:nvSpPr>
        <p:spPr>
          <a:xfrm>
            <a:off x="216000" y="1844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Miljøvirksomhe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kstboks 15"/>
          <p:cNvSpPr/>
          <p:nvPr/>
        </p:nvSpPr>
        <p:spPr>
          <a:xfrm>
            <a:off x="3584520" y="1844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Rådgiv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kstboks 16"/>
          <p:cNvSpPr/>
          <p:nvPr/>
        </p:nvSpPr>
        <p:spPr>
          <a:xfrm>
            <a:off x="4665600" y="184464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Uddannelsesinstitu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kstboks 17"/>
          <p:cNvSpPr/>
          <p:nvPr/>
        </p:nvSpPr>
        <p:spPr>
          <a:xfrm>
            <a:off x="6608880" y="184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Universitetshospital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kstboks 18"/>
          <p:cNvSpPr/>
          <p:nvPr/>
        </p:nvSpPr>
        <p:spPr>
          <a:xfrm>
            <a:off x="1784520" y="1844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Energivirksomhe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Midttrafik - logo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624880" y="2421000"/>
            <a:ext cx="1136520" cy="615960"/>
          </a:xfrm>
          <a:prstGeom prst="rect">
            <a:avLst/>
          </a:prstGeom>
          <a:ln w="0">
            <a:noFill/>
          </a:ln>
        </p:spPr>
      </p:pic>
      <p:sp>
        <p:nvSpPr>
          <p:cNvPr id="484" name="Tekstboks 20"/>
          <p:cNvSpPr/>
          <p:nvPr/>
        </p:nvSpPr>
        <p:spPr>
          <a:xfrm>
            <a:off x="8624880" y="1844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Trafikselska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http://t1.gstatic.com/images?q=tbn:ANd9GcSUcRiJV9J03-tYDZwrCl6fjqPKEtyo1PkURsixlquUpqFRWIe-TNOvXihb">
            <a:hlinkClick r:id="rId22"/>
          </p:cNvPr>
          <p:cNvPicPr/>
          <p:nvPr/>
        </p:nvPicPr>
        <p:blipFill>
          <a:blip r:embed="rId23"/>
          <a:stretch/>
        </p:blipFill>
        <p:spPr>
          <a:xfrm rot="18810000">
            <a:off x="3513240" y="5013000"/>
            <a:ext cx="1238040" cy="323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ttp://www.co2030.dk/~/media/Subsites/CO2030/Tema/City-Brand/co2030-with-aarhus.ashx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72880" y="549360"/>
            <a:ext cx="11908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De deltagende virksomhe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Diagram 6" descr=""/>
          <p:cNvPicPr/>
          <p:nvPr/>
        </p:nvPicPr>
        <p:blipFill>
          <a:blip r:embed="rId1"/>
          <a:stretch/>
        </p:blipFill>
        <p:spPr>
          <a:xfrm>
            <a:off x="1859040" y="1487520"/>
            <a:ext cx="7040520" cy="4645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2"/>
          <a:stretch/>
        </p:blipFill>
        <p:spPr>
          <a:xfrm>
            <a:off x="5168880" y="1916280"/>
            <a:ext cx="792360" cy="76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http://www.vestas.com/files/billeder/Photos/About_Vestas/Vision_new.jpg"/>
          <p:cNvPicPr/>
          <p:nvPr/>
        </p:nvPicPr>
        <p:blipFill>
          <a:blip r:embed="rId3"/>
          <a:srcRect l="50428" t="0" r="0" b="0"/>
          <a:stretch/>
        </p:blipFill>
        <p:spPr>
          <a:xfrm>
            <a:off x="6465960" y="4508640"/>
            <a:ext cx="647640" cy="644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http://inhabitat.com/wp-content/blogs.dir/1/files/2011/01/Electric-Cars-Noise-Law-2-537x335.jpg"/>
          <p:cNvPicPr/>
          <p:nvPr/>
        </p:nvPicPr>
        <p:blipFill>
          <a:blip r:embed="rId4"/>
          <a:stretch/>
        </p:blipFill>
        <p:spPr>
          <a:xfrm>
            <a:off x="7184880" y="4508640"/>
            <a:ext cx="973440" cy="649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http://t2.gstatic.com/images?q=tbn:ANd9GcR377t_b6xw_mYohHKKMqxjUeO4JbkMvi5BOrGNSoDHtggboUT6MHs6uw"/>
          <p:cNvPicPr/>
          <p:nvPr/>
        </p:nvPicPr>
        <p:blipFill>
          <a:blip r:embed="rId5"/>
          <a:srcRect l="9616" t="0" r="12912" b="0"/>
          <a:stretch/>
        </p:blipFill>
        <p:spPr>
          <a:xfrm>
            <a:off x="3873600" y="1916280"/>
            <a:ext cx="863640" cy="750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Se billede i fuld størrelse"/>
          <p:cNvPicPr/>
          <p:nvPr/>
        </p:nvPicPr>
        <p:blipFill>
          <a:blip r:embed="rId6"/>
          <a:srcRect l="0" t="0" r="14439" b="14974"/>
          <a:stretch/>
        </p:blipFill>
        <p:spPr>
          <a:xfrm>
            <a:off x="2649600" y="4581360"/>
            <a:ext cx="766800" cy="576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Se billede i fuld størrelse"/>
          <p:cNvPicPr/>
          <p:nvPr/>
        </p:nvPicPr>
        <p:blipFill>
          <a:blip r:embed="rId7"/>
          <a:stretch/>
        </p:blipFill>
        <p:spPr>
          <a:xfrm>
            <a:off x="1712880" y="4581360"/>
            <a:ext cx="8636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Motivation for netværkspartner:</a:t>
            </a:r>
            <a:br>
              <a:rPr sz="3600"/>
            </a:b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CO2, trængsel og medarbejdernes sund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2144880" y="2170080"/>
            <a:ext cx="568800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står over for en transportudfordring, som har betydning for områdets CO2-udledning, antallet af biler på vejen og medarbejdernes sundh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Med undersøgelsen tager vi nu et vigtigt skridt på vejen til at finde konkrete løsninger, der kan gøre en positiv forskel for klimaet og medarbejdersundheden”</a:t>
            </a:r>
            <a:r>
              <a:rPr b="0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Bjarne Langdahl Ri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Innovationsmanager ved Agro Food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ktangel 13"/>
          <p:cNvSpPr/>
          <p:nvPr/>
        </p:nvSpPr>
        <p:spPr>
          <a:xfrm>
            <a:off x="1857240" y="2421000"/>
            <a:ext cx="619128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leverer hver dag bæredygtige løsninger til vores kunder, og vi arbejder selvfølgelig også med, hvordan vi også selv agerer bæredygtigt som virksomh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Nu tager vi det ned på medarbejdernivea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og udover at vi måske kan afhjælpe trængslen her i området, håber vi at det kan hjælpe til at få gladere medarbejder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Søren Søren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Administrerende direktør i NR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itel 9"/>
          <p:cNvSpPr/>
          <p:nvPr/>
        </p:nvSpPr>
        <p:spPr>
          <a:xfrm>
            <a:off x="1103400" y="861840"/>
            <a:ext cx="796284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Motivation for netværkspartner:</a:t>
            </a:r>
            <a:br>
              <a:rPr sz="3600"/>
            </a:b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Strategi på medarbejderniveau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Motivation for netværkspartner:</a:t>
            </a:r>
            <a:br>
              <a:rPr sz="3600"/>
            </a:b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Mulighed for nye valg og va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1568520" y="2247840"/>
            <a:ext cx="662472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ved godt, at det er en lang proces at ændre på vaner og adfærd, og vores målsætning er at bringe andelen af biltrafikken betydeligt ned inden 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arbejder for eksempel m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at stille elcykler til rådighed for medarbejder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og sætte mere fokus på samkørselsordninger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Wilhelm Peder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Administrationschef i NRG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0:29:58Z</dcterms:created>
  <dc:creator>azkbd47</dc:creator>
  <dc:description/>
  <dc:language>en-US</dc:language>
  <cp:lastModifiedBy>therese.nasman</cp:lastModifiedBy>
  <dcterms:modified xsi:type="dcterms:W3CDTF">2012-06-15T14:31:58Z</dcterms:modified>
  <cp:revision>40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6695413</vt:r8>
  </property>
  <property fmtid="{D5CDD505-2E9C-101B-9397-08002B2CF9AE}" pid="3" name="_AuthorEmail">
    <vt:lpwstr>cpe@aarhus.dk</vt:lpwstr>
  </property>
  <property fmtid="{D5CDD505-2E9C-101B-9397-08002B2CF9AE}" pid="4" name="_AuthorEmailDisplayName">
    <vt:lpwstr>Cathrine Cecilie Pedersen</vt:lpwstr>
  </property>
  <property fmtid="{D5CDD505-2E9C-101B-9397-08002B2CF9AE}" pid="5" name="_EmailSubject">
    <vt:lpwstr>Mobility Management i Skejby - kort og lang version</vt:lpwstr>
  </property>
  <property fmtid="{D5CDD505-2E9C-101B-9397-08002B2CF9AE}" pid="6" name="_NewReviewCycle">
    <vt:lpwstr/>
  </property>
  <property fmtid="{D5CDD505-2E9C-101B-9397-08002B2CF9AE}" pid="7" name="_PreviousAdHocReviewCycleID">
    <vt:r8>2067532080</vt:r8>
  </property>
</Properties>
</file>