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2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27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29.jpeg" ContentType="image/jpeg"/>
  <Override PartName="/ppt/media/image10.jpeg" ContentType="image/jpeg"/>
  <Override PartName="/ppt/media/image30.png" ContentType="image/png"/>
  <Override PartName="/ppt/media/image5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</p:sldIdLst>
  <p:sldSz cx="9907588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dt" idx="22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sldImg"/>
          </p:nvPr>
        </p:nvSpPr>
        <p:spPr>
          <a:xfrm>
            <a:off x="645840" y="744120"/>
            <a:ext cx="5376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ftr" idx="23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 type="sldNum" idx="24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F773B-4AC3-42B1-A436-F0F9C86E79F5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646200" y="74448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 u="sng">
                <a:solidFill>
                  <a:srgbClr val="000000"/>
                </a:solidFill>
                <a:uFillTx/>
                <a:latin typeface="Calibri"/>
              </a:rPr>
              <a:t>Stik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Calibri"/>
              </a:rPr>
              <a:t>Frem til 2015 er det særligt inden for fem hovedspor, at Aarhus Kommunes indsats kan gøre en forsk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Calibri"/>
              </a:rPr>
              <a:t>Som det ses, har hvert af de fire første hovedspor en konkret effekt – som tilsammen understøtter det femte hovedspor med fokus på K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Calibri"/>
              </a:rPr>
              <a:t>De fem spor er valgt ud fra, hvor vi forventer størst effekt, størst mulighed for indflydelse, bedst sammenhæng mellem spor og størst  synergi til de aktiviteter, som i forvejen er i ga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Calibri"/>
              </a:rPr>
              <a:t>Under hvert hovedspor er der en række projekter, der er illustreret 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dsholder til diasnumm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8084E-C7C3-4B15-A31B-7B3734AE9FFE}" type="slidenum">
              <a:rPr b="0" lang="da-DK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B9669-CEB4-476A-9184-632712360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AE0D8-9C66-475B-9D8B-DFACA3E71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D3F93-A854-48AB-B68F-62208586A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3998C-2C43-474E-9BEA-6EF24F71C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13E97-0B5F-4785-B78A-B643B11BD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74B5AF-B05B-4987-9844-1C94DD43D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E9E845-72C9-412E-B541-0CF51F832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3B17D1-7127-47CA-A19C-93116B8BE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2D4C7E-434E-46D4-9E1D-F1BE57FA2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3613B6-DA3D-4BBB-BEB8-AE135B917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7F178-B4BD-4F3A-B9C1-ED32E49C9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29EA20-A1F8-4F9C-ABB7-092BF3C9E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5C3974-C9BE-4000-920E-7F4346FF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014A37-2722-4DFD-A96A-F9666BC3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BD807C-4B6C-4EB7-8D8A-176C049E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9579FC-765C-4419-9E4A-CFE086272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E7FD01-DAF7-42C8-9D84-7F79411F5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A6797C-F4D9-403D-A40B-CBAA3D362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34D464-4B1B-4730-AD1A-2CEDA894A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43ACB5-3A26-4E61-AE20-F9F9AAF97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D6D906-53C0-4CAE-B706-473AAE6CB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7FB60-35B1-4474-98A7-E8282A9DD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B5ACD6-DB42-4E9E-A8E5-42D9F4C24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B743EE-B3F6-432C-BA54-FA2C44445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AA9A0C-BC66-4988-9EB5-CC4D7D5EF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216831-5481-43D3-AE69-7474A344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C015D6-031D-4D22-9DF3-A2DE465D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06FA57-B396-4DEF-98D7-867BA7A4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7E3E52-76B3-4B7D-9BDB-71C5CF97F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42ED43-E518-4E69-9F26-8A80F1058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A5FAFD-41F1-4D7B-8ADE-724790F49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099D4D-AD13-48C0-850E-E41656629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FD4AA-5C2E-4E0A-8AD8-C705D7123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4B41D7-3D3F-4C36-86F0-2CB85AD14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584C3B-4FB7-4259-9ECC-D679485E9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02676D-4DD2-494A-BFCF-093362499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5222E7-FDDE-4BEA-B49A-E2C2EFF5D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BAA765-D22D-490E-B0F8-3530E0272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AE3C09-9CF7-41B7-8524-D1CC60B9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FDE73D-E986-4124-8ADC-3010FC3E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B71CE3-740B-421E-A1E8-8B962E35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28E5FD-0DDF-4852-AEBC-F0E661057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403B21-A9C2-49DF-889E-73E091067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677F3-FF90-4EB7-A89B-41037576E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CEC74F-B1F8-45C5-80DA-9A818F5E1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7932A8-D6E1-44CF-AD45-F5ABD7D24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09E132-57CD-4B11-BDD7-EB528289B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3D3E4B-02F5-4D09-9B4B-231437E6C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F09AB9-0C64-4F17-BE04-34F6437C7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E312B0-8678-4283-860F-AE73E1F5F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1C4541-5490-4CBD-828C-E889930AC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3BCD4C-7D35-4EB3-832B-FF0AF0E6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57964D-266A-4D73-8181-A18E5C0E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B8A700-6BDF-4BFF-BFB8-994DE4F1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77DCB-5DF0-4E4B-B9F3-5592894D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902CC0-501D-4B66-BA32-55D72C16C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D301D3-0159-4F30-AE0E-6E9472AC0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8B0AAD-B03D-47CD-9DDA-FF3AF98AB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180BC2-117C-4181-BCB7-76C7A8BF8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AE0A6F-53CE-4B05-B5C1-B9835F21F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732A73-1CB7-4EC7-8825-9885B1D7F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2C0452-3C5D-4398-85F6-1DFD9226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C8E9C9-796C-4B59-A8CA-858AE883C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FC18F0-EDE0-4912-AD7F-9B63B0CA6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191E69-3FE1-4DCB-9E52-913B4E46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A6E1E-892D-4B15-88AD-9B75CEA1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B8B2C3-2F7F-4E30-BD9A-785B4033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03FCDE-1BB0-4F81-888B-47708689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46D60C-9CD4-49DA-BDA1-157C1C6F0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B61828-79F8-4B02-BF38-E18D44DBC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D3ABB6-2E59-4ACF-9CA0-174FDA830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7F05B8-04B4-477F-B9B9-44FE8DCE1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9F7AE8-6C7C-46E3-B1D3-7FB5E99E7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DF87B9-572A-455A-AC15-4806F96FD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0CD984-0390-451D-B3D7-EA0C65FAA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3128F9-BBF7-4A27-8746-AE29D94D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67F7C-3487-43D3-8F82-BBD8C5E3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CAFA31-3AC1-4DCB-A8B4-3E597E4FE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F9CA22-AB3F-45A7-AE4E-3F34FF3B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2B0D66-9461-49B1-B81F-F0A28A6F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5B8582-47D6-4B24-BC2E-4E0C6603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FAE6C7-7568-4024-A14F-80E18EF8D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6E3AA9-45F1-45CE-B9D3-7A8E5D128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DA9ACC-D93C-4455-A677-5CDEEDB46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ktangel 8"/>
          <p:cNvSpPr/>
          <p:nvPr/>
        </p:nvSpPr>
        <p:spPr>
          <a:xfrm>
            <a:off x="0" y="6262560"/>
            <a:ext cx="9936000" cy="595440"/>
          </a:xfrm>
          <a:prstGeom prst="rect">
            <a:avLst/>
          </a:prstGeom>
          <a:solidFill>
            <a:srgbClr val="006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Rektangel 7"/>
          <p:cNvSpPr/>
          <p:nvPr/>
        </p:nvSpPr>
        <p:spPr>
          <a:xfrm>
            <a:off x="0" y="0"/>
            <a:ext cx="9906120" cy="115920"/>
          </a:xfrm>
          <a:prstGeom prst="rect">
            <a:avLst/>
          </a:prstGeom>
          <a:solidFill>
            <a:srgbClr val="006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Billede 9" descr="Image1.png"/>
          <p:cNvPicPr/>
          <p:nvPr/>
        </p:nvPicPr>
        <p:blipFill>
          <a:blip r:embed="rId2"/>
          <a:stretch/>
        </p:blipFill>
        <p:spPr>
          <a:xfrm>
            <a:off x="8675640" y="6410160"/>
            <a:ext cx="865080" cy="311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963360" y="6372360"/>
            <a:ext cx="118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a-DK" sz="800" spc="-1" strike="noStrike">
                <a:solidFill>
                  <a:srgbClr val="ffffff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AE179-5574-4CD7-A1F4-553D80D42DD7}" type="datetime">
              <a:rPr b="1" lang="da-DK" sz="800" spc="-1" strike="noStrike">
                <a:solidFill>
                  <a:srgbClr val="ffffff"/>
                </a:solidFill>
                <a:latin typeface="Tahoma"/>
                <a:ea typeface="Tahoma"/>
              </a:rPr>
              <a:t>31-07-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257040" y="6372360"/>
            <a:ext cx="663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a-DK" sz="800" spc="-1" strike="noStrike">
                <a:solidFill>
                  <a:srgbClr val="ffffff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ffffff"/>
                </a:solidFill>
                <a:latin typeface="Tahoma"/>
                <a:ea typeface="Tahoma"/>
              </a:rPr>
              <a:t>Side </a:t>
            </a:r>
            <a:fld id="{F5C2C195-BB7B-46D2-9438-F3743F233BD5}" type="slidenum">
              <a:rPr b="1" lang="da-DK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2187360" y="6372360"/>
            <a:ext cx="6365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a-DK" sz="800" spc="-1" strike="noStrike">
                <a:solidFill>
                  <a:srgbClr val="ffffff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ffffff"/>
                </a:solidFill>
                <a:latin typeface="Tahoma"/>
                <a:ea typeface="Tahoma"/>
              </a:rPr>
              <a:t>Kommunikationsem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ktangel 8"/>
          <p:cNvSpPr/>
          <p:nvPr/>
        </p:nvSpPr>
        <p:spPr>
          <a:xfrm>
            <a:off x="0" y="6262560"/>
            <a:ext cx="9936000" cy="595440"/>
          </a:xfrm>
          <a:prstGeom prst="rect">
            <a:avLst/>
          </a:prstGeom>
          <a:solidFill>
            <a:srgbClr val="006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Rektangel 7"/>
          <p:cNvSpPr/>
          <p:nvPr/>
        </p:nvSpPr>
        <p:spPr>
          <a:xfrm>
            <a:off x="0" y="0"/>
            <a:ext cx="9906120" cy="115920"/>
          </a:xfrm>
          <a:prstGeom prst="rect">
            <a:avLst/>
          </a:prstGeom>
          <a:solidFill>
            <a:srgbClr val="006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7" name="Billede 9" descr="Image1.png"/>
          <p:cNvPicPr/>
          <p:nvPr/>
        </p:nvPicPr>
        <p:blipFill>
          <a:blip r:embed="rId2"/>
          <a:stretch/>
        </p:blipFill>
        <p:spPr>
          <a:xfrm>
            <a:off x="8675640" y="6410160"/>
            <a:ext cx="865080" cy="31140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ktangel 8"/>
          <p:cNvSpPr/>
          <p:nvPr/>
        </p:nvSpPr>
        <p:spPr>
          <a:xfrm>
            <a:off x="0" y="6262560"/>
            <a:ext cx="9936000" cy="595440"/>
          </a:xfrm>
          <a:prstGeom prst="rect">
            <a:avLst/>
          </a:prstGeom>
          <a:solidFill>
            <a:srgbClr val="006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ktangel 7"/>
          <p:cNvSpPr/>
          <p:nvPr/>
        </p:nvSpPr>
        <p:spPr>
          <a:xfrm>
            <a:off x="0" y="0"/>
            <a:ext cx="9906120" cy="115920"/>
          </a:xfrm>
          <a:prstGeom prst="rect">
            <a:avLst/>
          </a:prstGeom>
          <a:solidFill>
            <a:srgbClr val="006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Billede 9" descr="Image1.png"/>
          <p:cNvPicPr/>
          <p:nvPr/>
        </p:nvPicPr>
        <p:blipFill>
          <a:blip r:embed="rId2"/>
          <a:stretch/>
        </p:blipFill>
        <p:spPr>
          <a:xfrm>
            <a:off x="8675640" y="6410160"/>
            <a:ext cx="865080" cy="311400"/>
          </a:xfrm>
          <a:prstGeom prst="rect">
            <a:avLst/>
          </a:prstGeom>
          <a:ln w="0">
            <a:noFill/>
          </a:ln>
        </p:spPr>
      </p:pic>
      <p:sp>
        <p:nvSpPr>
          <p:cNvPr id="47" name="Rektangel 10"/>
          <p:cNvSpPr/>
          <p:nvPr/>
        </p:nvSpPr>
        <p:spPr>
          <a:xfrm>
            <a:off x="0" y="0"/>
            <a:ext cx="9936000" cy="6858000"/>
          </a:xfrm>
          <a:prstGeom prst="rect">
            <a:avLst/>
          </a:prstGeom>
          <a:solidFill>
            <a:srgbClr val="006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Billede 9" descr="Image6.png"/>
          <p:cNvPicPr/>
          <p:nvPr/>
        </p:nvPicPr>
        <p:blipFill>
          <a:blip r:embed="rId3"/>
          <a:stretch/>
        </p:blipFill>
        <p:spPr>
          <a:xfrm>
            <a:off x="4952880" y="2997360"/>
            <a:ext cx="3600720" cy="2317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ktangel 8"/>
          <p:cNvSpPr/>
          <p:nvPr/>
        </p:nvSpPr>
        <p:spPr>
          <a:xfrm>
            <a:off x="0" y="6262560"/>
            <a:ext cx="9936000" cy="595440"/>
          </a:xfrm>
          <a:prstGeom prst="rect">
            <a:avLst/>
          </a:prstGeom>
          <a:solidFill>
            <a:srgbClr val="006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ktangel 7"/>
          <p:cNvSpPr/>
          <p:nvPr/>
        </p:nvSpPr>
        <p:spPr>
          <a:xfrm>
            <a:off x="0" y="0"/>
            <a:ext cx="9906120" cy="115920"/>
          </a:xfrm>
          <a:prstGeom prst="rect">
            <a:avLst/>
          </a:prstGeom>
          <a:solidFill>
            <a:srgbClr val="006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Billede 9" descr="Image1.png"/>
          <p:cNvPicPr/>
          <p:nvPr/>
        </p:nvPicPr>
        <p:blipFill>
          <a:blip r:embed="rId2"/>
          <a:stretch/>
        </p:blipFill>
        <p:spPr>
          <a:xfrm>
            <a:off x="8675640" y="6410160"/>
            <a:ext cx="865080" cy="311400"/>
          </a:xfrm>
          <a:prstGeom prst="rect">
            <a:avLst/>
          </a:prstGeom>
          <a:ln w="0">
            <a:noFill/>
          </a:ln>
        </p:spPr>
      </p:pic>
      <p:sp>
        <p:nvSpPr>
          <p:cNvPr id="90" name="Rektangel 10"/>
          <p:cNvSpPr/>
          <p:nvPr/>
        </p:nvSpPr>
        <p:spPr>
          <a:xfrm>
            <a:off x="0" y="0"/>
            <a:ext cx="9936000" cy="6858000"/>
          </a:xfrm>
          <a:prstGeom prst="rect">
            <a:avLst/>
          </a:prstGeom>
          <a:solidFill>
            <a:srgbClr val="006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kstboks 7"/>
          <p:cNvSpPr/>
          <p:nvPr/>
        </p:nvSpPr>
        <p:spPr>
          <a:xfrm>
            <a:off x="6610320" y="2421000"/>
            <a:ext cx="71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900" spc="-1" strike="noStrike">
                <a:solidFill>
                  <a:srgbClr val="ffffff"/>
                </a:solidFill>
                <a:latin typeface="Tahoma"/>
                <a:ea typeface="Tahoma"/>
              </a:rPr>
              <a:t>Welcom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Billede 10" descr="Image6.png"/>
          <p:cNvPicPr/>
          <p:nvPr/>
        </p:nvPicPr>
        <p:blipFill>
          <a:blip r:embed="rId3"/>
          <a:stretch/>
        </p:blipFill>
        <p:spPr>
          <a:xfrm>
            <a:off x="4952880" y="2997360"/>
            <a:ext cx="3600720" cy="23176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4"/>
          </p:nvPr>
        </p:nvSpPr>
        <p:spPr>
          <a:xfrm>
            <a:off x="963360" y="6372360"/>
            <a:ext cx="118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a-DK" sz="800" spc="-1" strike="noStrike">
                <a:solidFill>
                  <a:srgbClr val="ffffff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DF7B1-515B-4ACD-BE0F-2335D71958FC}" type="datetime">
              <a:rPr b="1" lang="da-DK" sz="800" spc="-1" strike="noStrike">
                <a:solidFill>
                  <a:srgbClr val="ffffff"/>
                </a:solidFill>
                <a:latin typeface="Tahoma"/>
                <a:ea typeface="Tahoma"/>
              </a:rPr>
              <a:t>31-07-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sldNum" idx="5"/>
          </p:nvPr>
        </p:nvSpPr>
        <p:spPr>
          <a:xfrm>
            <a:off x="257040" y="6372360"/>
            <a:ext cx="663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a-DK" sz="800" spc="-1" strike="noStrike">
                <a:solidFill>
                  <a:srgbClr val="ffffff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ffffff"/>
                </a:solidFill>
                <a:latin typeface="Tahoma"/>
                <a:ea typeface="Tahoma"/>
              </a:rPr>
              <a:t>Side </a:t>
            </a:r>
            <a:fld id="{B7F4CB2C-7375-4B12-BBAC-4C8C4A2C17FF}" type="slidenum">
              <a:rPr b="1" lang="da-DK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6"/>
          </p:nvPr>
        </p:nvSpPr>
        <p:spPr>
          <a:xfrm>
            <a:off x="2187360" y="6372360"/>
            <a:ext cx="6365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a-DK" sz="800" spc="-1" strike="noStrike">
                <a:solidFill>
                  <a:srgbClr val="ffffff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ffffff"/>
                </a:solidFill>
                <a:latin typeface="Tahoma"/>
                <a:ea typeface="Tahoma"/>
              </a:rPr>
              <a:t>Kommunikationsem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ktangel 8"/>
          <p:cNvSpPr/>
          <p:nvPr/>
        </p:nvSpPr>
        <p:spPr>
          <a:xfrm>
            <a:off x="0" y="6262560"/>
            <a:ext cx="9936000" cy="595440"/>
          </a:xfrm>
          <a:prstGeom prst="rect">
            <a:avLst/>
          </a:prstGeom>
          <a:solidFill>
            <a:srgbClr val="006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ktangel 7"/>
          <p:cNvSpPr/>
          <p:nvPr/>
        </p:nvSpPr>
        <p:spPr>
          <a:xfrm>
            <a:off x="0" y="0"/>
            <a:ext cx="9906120" cy="115920"/>
          </a:xfrm>
          <a:prstGeom prst="rect">
            <a:avLst/>
          </a:prstGeom>
          <a:solidFill>
            <a:srgbClr val="006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Billede 9" descr="Image1.png"/>
          <p:cNvPicPr/>
          <p:nvPr/>
        </p:nvPicPr>
        <p:blipFill>
          <a:blip r:embed="rId2"/>
          <a:stretch/>
        </p:blipFill>
        <p:spPr>
          <a:xfrm>
            <a:off x="8675640" y="6410160"/>
            <a:ext cx="865080" cy="311400"/>
          </a:xfrm>
          <a:prstGeom prst="rect">
            <a:avLst/>
          </a:prstGeom>
          <a:ln w="0">
            <a:noFill/>
          </a:ln>
        </p:spPr>
      </p:pic>
      <p:sp>
        <p:nvSpPr>
          <p:cNvPr id="137" name="Rektangel 10"/>
          <p:cNvSpPr/>
          <p:nvPr/>
        </p:nvSpPr>
        <p:spPr>
          <a:xfrm>
            <a:off x="0" y="6262560"/>
            <a:ext cx="9936000" cy="595440"/>
          </a:xfrm>
          <a:prstGeom prst="rect">
            <a:avLst/>
          </a:prstGeom>
          <a:solidFill>
            <a:srgbClr val="006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7"/>
          </p:nvPr>
        </p:nvSpPr>
        <p:spPr>
          <a:xfrm>
            <a:off x="963360" y="6372360"/>
            <a:ext cx="118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a-DK" sz="800" spc="-1" strike="noStrike">
                <a:solidFill>
                  <a:srgbClr val="ffffff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AAB99-2420-4AD1-99CD-00F366C8EFBE}" type="datetime">
              <a:rPr b="1" lang="da-DK" sz="800" spc="-1" strike="noStrike">
                <a:solidFill>
                  <a:srgbClr val="ffffff"/>
                </a:solidFill>
                <a:latin typeface="Tahoma"/>
                <a:ea typeface="Tahoma"/>
              </a:rPr>
              <a:t>31-07-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sldNum" idx="8"/>
          </p:nvPr>
        </p:nvSpPr>
        <p:spPr>
          <a:xfrm>
            <a:off x="257040" y="6372360"/>
            <a:ext cx="663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a-DK" sz="800" spc="-1" strike="noStrike">
                <a:solidFill>
                  <a:srgbClr val="ffffff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ffffff"/>
                </a:solidFill>
                <a:latin typeface="Tahoma"/>
                <a:ea typeface="Tahoma"/>
              </a:rPr>
              <a:t>Side </a:t>
            </a:r>
            <a:fld id="{57688BEF-474B-401A-8EEC-4F3A85931BB4}" type="slidenum">
              <a:rPr b="1" lang="da-DK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ftr" idx="9"/>
          </p:nvPr>
        </p:nvSpPr>
        <p:spPr>
          <a:xfrm>
            <a:off x="2187360" y="6372360"/>
            <a:ext cx="6365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a-DK" sz="800" spc="-1" strike="noStrike">
                <a:solidFill>
                  <a:srgbClr val="ffffff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ffffff"/>
                </a:solidFill>
                <a:latin typeface="Tahoma"/>
                <a:ea typeface="Tahoma"/>
              </a:rPr>
              <a:t>Kommunikationsem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ktangel 8"/>
          <p:cNvSpPr/>
          <p:nvPr/>
        </p:nvSpPr>
        <p:spPr>
          <a:xfrm>
            <a:off x="0" y="6262560"/>
            <a:ext cx="9936000" cy="595440"/>
          </a:xfrm>
          <a:prstGeom prst="rect">
            <a:avLst/>
          </a:prstGeom>
          <a:solidFill>
            <a:srgbClr val="006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ktangel 7"/>
          <p:cNvSpPr/>
          <p:nvPr/>
        </p:nvSpPr>
        <p:spPr>
          <a:xfrm>
            <a:off x="0" y="0"/>
            <a:ext cx="9906120" cy="115920"/>
          </a:xfrm>
          <a:prstGeom prst="rect">
            <a:avLst/>
          </a:prstGeom>
          <a:solidFill>
            <a:srgbClr val="006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Billede 9" descr="Image1.png"/>
          <p:cNvPicPr/>
          <p:nvPr/>
        </p:nvPicPr>
        <p:blipFill>
          <a:blip r:embed="rId2"/>
          <a:stretch/>
        </p:blipFill>
        <p:spPr>
          <a:xfrm>
            <a:off x="8675640" y="6410160"/>
            <a:ext cx="865080" cy="311400"/>
          </a:xfrm>
          <a:prstGeom prst="rect">
            <a:avLst/>
          </a:prstGeom>
          <a:ln w="0">
            <a:noFill/>
          </a:ln>
        </p:spPr>
      </p:pic>
      <p:sp>
        <p:nvSpPr>
          <p:cNvPr id="182" name="Rektangel 10"/>
          <p:cNvSpPr/>
          <p:nvPr/>
        </p:nvSpPr>
        <p:spPr>
          <a:xfrm>
            <a:off x="0" y="0"/>
            <a:ext cx="9936000" cy="6858000"/>
          </a:xfrm>
          <a:prstGeom prst="rect">
            <a:avLst/>
          </a:prstGeom>
          <a:solidFill>
            <a:srgbClr val="006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Billede 7" descr="Image1.png"/>
          <p:cNvPicPr/>
          <p:nvPr/>
        </p:nvPicPr>
        <p:blipFill>
          <a:blip r:embed="rId3"/>
          <a:stretch/>
        </p:blipFill>
        <p:spPr>
          <a:xfrm>
            <a:off x="8675640" y="6410160"/>
            <a:ext cx="865080" cy="3114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0"/>
          </p:nvPr>
        </p:nvSpPr>
        <p:spPr>
          <a:xfrm>
            <a:off x="963360" y="6372360"/>
            <a:ext cx="118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a-DK" sz="800" spc="-1" strike="noStrike">
                <a:solidFill>
                  <a:srgbClr val="ffffff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80DD3-5717-4072-9322-53538DF9C5B3}" type="datetime">
              <a:rPr b="1" lang="da-DK" sz="800" spc="-1" strike="noStrike">
                <a:solidFill>
                  <a:srgbClr val="ffffff"/>
                </a:solidFill>
                <a:latin typeface="Tahoma"/>
                <a:ea typeface="Tahoma"/>
              </a:rPr>
              <a:t>31-07-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sldNum" idx="11"/>
          </p:nvPr>
        </p:nvSpPr>
        <p:spPr>
          <a:xfrm>
            <a:off x="257040" y="6372360"/>
            <a:ext cx="663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a-DK" sz="800" spc="-1" strike="noStrike">
                <a:solidFill>
                  <a:srgbClr val="ffffff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ffffff"/>
                </a:solidFill>
                <a:latin typeface="Tahoma"/>
                <a:ea typeface="Tahoma"/>
              </a:rPr>
              <a:t>Side </a:t>
            </a:r>
            <a:fld id="{74F92E33-EBCB-4774-BE6B-F19622FC17FF}" type="slidenum">
              <a:rPr b="1" lang="da-DK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ftr" idx="12"/>
          </p:nvPr>
        </p:nvSpPr>
        <p:spPr>
          <a:xfrm>
            <a:off x="2187360" y="6372360"/>
            <a:ext cx="6365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a-DK" sz="800" spc="-1" strike="noStrike">
                <a:solidFill>
                  <a:srgbClr val="ffffff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ffffff"/>
                </a:solidFill>
                <a:latin typeface="Tahoma"/>
                <a:ea typeface="Tahoma"/>
              </a:rPr>
              <a:t>Kommunikationsem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ktangel 8"/>
          <p:cNvSpPr/>
          <p:nvPr/>
        </p:nvSpPr>
        <p:spPr>
          <a:xfrm>
            <a:off x="0" y="6262560"/>
            <a:ext cx="9936000" cy="595440"/>
          </a:xfrm>
          <a:prstGeom prst="rect">
            <a:avLst/>
          </a:prstGeom>
          <a:solidFill>
            <a:srgbClr val="006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ktangel 7"/>
          <p:cNvSpPr/>
          <p:nvPr/>
        </p:nvSpPr>
        <p:spPr>
          <a:xfrm>
            <a:off x="0" y="0"/>
            <a:ext cx="9906120" cy="115920"/>
          </a:xfrm>
          <a:prstGeom prst="rect">
            <a:avLst/>
          </a:prstGeom>
          <a:solidFill>
            <a:srgbClr val="006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Billede 9" descr="Image1.png"/>
          <p:cNvPicPr/>
          <p:nvPr/>
        </p:nvPicPr>
        <p:blipFill>
          <a:blip r:embed="rId2"/>
          <a:stretch/>
        </p:blipFill>
        <p:spPr>
          <a:xfrm>
            <a:off x="8675640" y="6410160"/>
            <a:ext cx="865080" cy="311400"/>
          </a:xfrm>
          <a:prstGeom prst="rect">
            <a:avLst/>
          </a:prstGeom>
          <a:ln w="0">
            <a:noFill/>
          </a:ln>
        </p:spPr>
      </p:pic>
      <p:sp>
        <p:nvSpPr>
          <p:cNvPr id="228" name="Rektangel 10"/>
          <p:cNvSpPr/>
          <p:nvPr/>
        </p:nvSpPr>
        <p:spPr>
          <a:xfrm>
            <a:off x="0" y="0"/>
            <a:ext cx="993600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3"/>
          </p:nvPr>
        </p:nvSpPr>
        <p:spPr>
          <a:xfrm>
            <a:off x="963360" y="6372360"/>
            <a:ext cx="118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a-DK" sz="800" spc="-1" strike="noStrike">
                <a:solidFill>
                  <a:srgbClr val="ffffff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101C1-45DC-45E8-B2F7-B536CA13C87D}" type="datetime">
              <a:rPr b="1" lang="da-DK" sz="800" spc="-1" strike="noStrike">
                <a:solidFill>
                  <a:srgbClr val="ffffff"/>
                </a:solidFill>
                <a:latin typeface="Tahoma"/>
                <a:ea typeface="Tahoma"/>
              </a:rPr>
              <a:t>31-07-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sldNum" idx="14"/>
          </p:nvPr>
        </p:nvSpPr>
        <p:spPr>
          <a:xfrm>
            <a:off x="257040" y="6372360"/>
            <a:ext cx="663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a-DK" sz="800" spc="-1" strike="noStrike">
                <a:solidFill>
                  <a:srgbClr val="ffffff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ffffff"/>
                </a:solidFill>
                <a:latin typeface="Tahoma"/>
                <a:ea typeface="Tahoma"/>
              </a:rPr>
              <a:t>Side </a:t>
            </a:r>
            <a:fld id="{EFD3DE84-1D11-4986-8F68-16002005E835}" type="slidenum">
              <a:rPr b="1" lang="da-DK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5"/>
          </p:nvPr>
        </p:nvSpPr>
        <p:spPr>
          <a:xfrm>
            <a:off x="2187360" y="6372360"/>
            <a:ext cx="6365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a-DK" sz="800" spc="-1" strike="noStrike">
                <a:solidFill>
                  <a:srgbClr val="ffffff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ffffff"/>
                </a:solidFill>
                <a:latin typeface="Tahoma"/>
                <a:ea typeface="Tahoma"/>
              </a:rPr>
              <a:t>Kommunikationsem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ktangel 8"/>
          <p:cNvSpPr/>
          <p:nvPr/>
        </p:nvSpPr>
        <p:spPr>
          <a:xfrm>
            <a:off x="0" y="6262560"/>
            <a:ext cx="9936000" cy="595440"/>
          </a:xfrm>
          <a:prstGeom prst="rect">
            <a:avLst/>
          </a:prstGeom>
          <a:solidFill>
            <a:srgbClr val="006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Rektangel 7"/>
          <p:cNvSpPr/>
          <p:nvPr/>
        </p:nvSpPr>
        <p:spPr>
          <a:xfrm>
            <a:off x="0" y="0"/>
            <a:ext cx="9906120" cy="115920"/>
          </a:xfrm>
          <a:prstGeom prst="rect">
            <a:avLst/>
          </a:prstGeom>
          <a:solidFill>
            <a:srgbClr val="006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2" name="Billede 9" descr="Image1.png"/>
          <p:cNvPicPr/>
          <p:nvPr/>
        </p:nvPicPr>
        <p:blipFill>
          <a:blip r:embed="rId2"/>
          <a:stretch/>
        </p:blipFill>
        <p:spPr>
          <a:xfrm>
            <a:off x="8675640" y="6410160"/>
            <a:ext cx="865080" cy="311400"/>
          </a:xfrm>
          <a:prstGeom prst="rect">
            <a:avLst/>
          </a:prstGeom>
          <a:ln w="0">
            <a:noFill/>
          </a:ln>
        </p:spPr>
      </p:pic>
      <p:sp>
        <p:nvSpPr>
          <p:cNvPr id="273" name="Rektangel 10"/>
          <p:cNvSpPr/>
          <p:nvPr/>
        </p:nvSpPr>
        <p:spPr>
          <a:xfrm>
            <a:off x="0" y="0"/>
            <a:ext cx="9936000" cy="6858000"/>
          </a:xfrm>
          <a:prstGeom prst="rect">
            <a:avLst/>
          </a:prstGeom>
          <a:solidFill>
            <a:srgbClr val="115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kstboks 10"/>
          <p:cNvSpPr/>
          <p:nvPr/>
        </p:nvSpPr>
        <p:spPr>
          <a:xfrm>
            <a:off x="7126200" y="1268280"/>
            <a:ext cx="14274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900" spc="-1" strike="noStrike">
                <a:solidFill>
                  <a:srgbClr val="ffffff"/>
                </a:solidFill>
                <a:latin typeface="Tahoma"/>
                <a:ea typeface="Tahoma"/>
              </a:rPr>
              <a:t>Aarhus Kommun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900" spc="-1" strike="noStrike">
                <a:solidFill>
                  <a:srgbClr val="ffffff"/>
                </a:solidFill>
                <a:latin typeface="Tahoma"/>
                <a:ea typeface="Tahoma"/>
              </a:rPr>
              <a:t>Rådhuspladsen</a:t>
            </a:r>
            <a:br>
              <a:rPr sz="900"/>
            </a:br>
            <a:r>
              <a:rPr b="1" lang="da-DK" sz="900" spc="-1" strike="noStrike">
                <a:solidFill>
                  <a:srgbClr val="ffffff"/>
                </a:solidFill>
                <a:latin typeface="Tahoma"/>
                <a:ea typeface="Tahoma"/>
              </a:rPr>
              <a:t>Postboks 36</a:t>
            </a:r>
            <a:br>
              <a:rPr sz="900"/>
            </a:br>
            <a:r>
              <a:rPr b="1" lang="da-DK" sz="900" spc="-1" strike="noStrike">
                <a:solidFill>
                  <a:srgbClr val="ffffff"/>
                </a:solidFill>
                <a:latin typeface="Tahoma"/>
                <a:ea typeface="Tahoma"/>
              </a:rPr>
              <a:t>DK-8000 Aarhus 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900" spc="-1" strike="noStrike">
                <a:solidFill>
                  <a:srgbClr val="ffffff"/>
                </a:solidFill>
                <a:latin typeface="Tahoma"/>
                <a:ea typeface="Tahoma"/>
              </a:rPr>
              <a:t>T +45 8940 200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900" spc="-1" strike="noStrike">
                <a:solidFill>
                  <a:srgbClr val="ffffff"/>
                </a:solidFill>
                <a:latin typeface="Tahoma"/>
                <a:ea typeface="Tahoma"/>
              </a:rPr>
              <a:t>www.aarhus.dk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Billede 19" descr="Image6.png"/>
          <p:cNvPicPr/>
          <p:nvPr/>
        </p:nvPicPr>
        <p:blipFill>
          <a:blip r:embed="rId3"/>
          <a:stretch/>
        </p:blipFill>
        <p:spPr>
          <a:xfrm>
            <a:off x="4952880" y="3414600"/>
            <a:ext cx="3600720" cy="231804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6"/>
          </p:nvPr>
        </p:nvSpPr>
        <p:spPr>
          <a:xfrm>
            <a:off x="963360" y="6372360"/>
            <a:ext cx="118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a-DK" sz="800" spc="-1" strike="noStrike">
                <a:solidFill>
                  <a:srgbClr val="ffffff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B7ED7-6EED-49C9-8B4D-4484FF774954}" type="datetime">
              <a:rPr b="1" lang="da-DK" sz="800" spc="-1" strike="noStrike">
                <a:solidFill>
                  <a:srgbClr val="ffffff"/>
                </a:solidFill>
                <a:latin typeface="Tahoma"/>
                <a:ea typeface="Tahoma"/>
              </a:rPr>
              <a:t>31-07-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sldNum" idx="17"/>
          </p:nvPr>
        </p:nvSpPr>
        <p:spPr>
          <a:xfrm>
            <a:off x="257040" y="6372360"/>
            <a:ext cx="663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a-DK" sz="800" spc="-1" strike="noStrike">
                <a:solidFill>
                  <a:srgbClr val="ffffff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59D7F-02B9-439C-9D90-88487EBAE9CD}" type="slidenum">
              <a:rPr b="1" lang="da-DK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ftr" idx="18"/>
          </p:nvPr>
        </p:nvSpPr>
        <p:spPr>
          <a:xfrm>
            <a:off x="2187360" y="6372360"/>
            <a:ext cx="6365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a-DK" sz="800" spc="-1" strike="noStrike">
                <a:solidFill>
                  <a:srgbClr val="ffffff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ffffff"/>
                </a:solidFill>
                <a:latin typeface="Tahoma"/>
                <a:ea typeface="Tahoma"/>
              </a:rPr>
              <a:t>Kommunikationsem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ktangel 8"/>
          <p:cNvSpPr/>
          <p:nvPr/>
        </p:nvSpPr>
        <p:spPr>
          <a:xfrm>
            <a:off x="0" y="6262560"/>
            <a:ext cx="9936000" cy="595440"/>
          </a:xfrm>
          <a:prstGeom prst="rect">
            <a:avLst/>
          </a:prstGeom>
          <a:solidFill>
            <a:srgbClr val="006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ktangel 7"/>
          <p:cNvSpPr/>
          <p:nvPr/>
        </p:nvSpPr>
        <p:spPr>
          <a:xfrm>
            <a:off x="0" y="0"/>
            <a:ext cx="9906120" cy="115920"/>
          </a:xfrm>
          <a:prstGeom prst="rect">
            <a:avLst/>
          </a:prstGeom>
          <a:solidFill>
            <a:srgbClr val="006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9" name="Billede 9" descr="Image1.png"/>
          <p:cNvPicPr/>
          <p:nvPr/>
        </p:nvPicPr>
        <p:blipFill>
          <a:blip r:embed="rId2"/>
          <a:stretch/>
        </p:blipFill>
        <p:spPr>
          <a:xfrm>
            <a:off x="8675640" y="6410160"/>
            <a:ext cx="865080" cy="311400"/>
          </a:xfrm>
          <a:prstGeom prst="rect">
            <a:avLst/>
          </a:prstGeom>
          <a:ln w="0">
            <a:noFill/>
          </a:ln>
        </p:spPr>
      </p:pic>
      <p:sp>
        <p:nvSpPr>
          <p:cNvPr id="320" name="Rektangel 10"/>
          <p:cNvSpPr/>
          <p:nvPr/>
        </p:nvSpPr>
        <p:spPr>
          <a:xfrm>
            <a:off x="0" y="0"/>
            <a:ext cx="9936000" cy="6858000"/>
          </a:xfrm>
          <a:prstGeom prst="rect">
            <a:avLst/>
          </a:prstGeom>
          <a:solidFill>
            <a:srgbClr val="115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Tekstboks 10"/>
          <p:cNvSpPr/>
          <p:nvPr/>
        </p:nvSpPr>
        <p:spPr>
          <a:xfrm>
            <a:off x="7126200" y="1268280"/>
            <a:ext cx="14274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900" spc="-1" strike="noStrike">
                <a:solidFill>
                  <a:srgbClr val="ffffff"/>
                </a:solidFill>
                <a:latin typeface="Tahoma"/>
                <a:ea typeface="Tahoma"/>
              </a:rPr>
              <a:t>Aarhus Kommun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900" spc="-1" strike="noStrike">
                <a:solidFill>
                  <a:srgbClr val="ffffff"/>
                </a:solidFill>
                <a:latin typeface="Tahoma"/>
                <a:ea typeface="Tahoma"/>
              </a:rPr>
              <a:t>Rådhuspladsen</a:t>
            </a:r>
            <a:br>
              <a:rPr sz="900"/>
            </a:br>
            <a:r>
              <a:rPr b="1" lang="da-DK" sz="900" spc="-1" strike="noStrike">
                <a:solidFill>
                  <a:srgbClr val="ffffff"/>
                </a:solidFill>
                <a:latin typeface="Tahoma"/>
                <a:ea typeface="Tahoma"/>
              </a:rPr>
              <a:t>Postboks 36</a:t>
            </a:r>
            <a:br>
              <a:rPr sz="900"/>
            </a:br>
            <a:r>
              <a:rPr b="1" lang="da-DK" sz="900" spc="-1" strike="noStrike">
                <a:solidFill>
                  <a:srgbClr val="ffffff"/>
                </a:solidFill>
                <a:latin typeface="Tahoma"/>
                <a:ea typeface="Tahoma"/>
              </a:rPr>
              <a:t>DK-8000 Aarhus 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900" spc="-1" strike="noStrike">
                <a:solidFill>
                  <a:srgbClr val="ffffff"/>
                </a:solidFill>
                <a:latin typeface="Tahoma"/>
                <a:ea typeface="Tahoma"/>
              </a:rPr>
              <a:t>T +45 8940 200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900" spc="-1" strike="noStrike">
                <a:solidFill>
                  <a:srgbClr val="ffffff"/>
                </a:solidFill>
                <a:latin typeface="Tahoma"/>
                <a:ea typeface="Tahoma"/>
              </a:rPr>
              <a:t>www.aarhus.dk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2" name="Picture 2" descr="L:\DDB\PRUdvikling\#Layoutopgaver\Citybranding\Aarhus_navnetraek\Aarhus_Progress_negativ\PNG\Aarhus_Progress_negativ.png"/>
          <p:cNvPicPr/>
          <p:nvPr/>
        </p:nvPicPr>
        <p:blipFill>
          <a:blip r:embed="rId3"/>
          <a:stretch/>
        </p:blipFill>
        <p:spPr>
          <a:xfrm>
            <a:off x="4952880" y="3581280"/>
            <a:ext cx="3600720" cy="121608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9"/>
          </p:nvPr>
        </p:nvSpPr>
        <p:spPr>
          <a:xfrm>
            <a:off x="963360" y="6372360"/>
            <a:ext cx="118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a-DK" sz="800" spc="-1" strike="noStrike">
                <a:solidFill>
                  <a:srgbClr val="ffffff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FD0F4-189C-4229-90F1-4E39D326AB3D}" type="datetime">
              <a:rPr b="1" lang="da-DK" sz="800" spc="-1" strike="noStrike">
                <a:solidFill>
                  <a:srgbClr val="ffffff"/>
                </a:solidFill>
                <a:latin typeface="Tahoma"/>
                <a:ea typeface="Tahoma"/>
              </a:rPr>
              <a:t>31-07-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sldNum" idx="20"/>
          </p:nvPr>
        </p:nvSpPr>
        <p:spPr>
          <a:xfrm>
            <a:off x="257040" y="6372360"/>
            <a:ext cx="663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a-DK" sz="800" spc="-1" strike="noStrike">
                <a:solidFill>
                  <a:srgbClr val="ffffff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178C8-1750-45F5-826D-31AF1077D94D}" type="slidenum">
              <a:rPr b="1" lang="da-DK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ftr" idx="21"/>
          </p:nvPr>
        </p:nvSpPr>
        <p:spPr>
          <a:xfrm>
            <a:off x="2187360" y="6372360"/>
            <a:ext cx="6365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a-DK" sz="800" spc="-1" strike="noStrike">
                <a:solidFill>
                  <a:srgbClr val="ffffff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ffffff"/>
                </a:solidFill>
                <a:latin typeface="Tahoma"/>
                <a:ea typeface="Tahoma"/>
              </a:rPr>
              <a:t>Kommunikationsem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ktangel 8"/>
          <p:cNvSpPr/>
          <p:nvPr/>
        </p:nvSpPr>
        <p:spPr>
          <a:xfrm>
            <a:off x="0" y="6262560"/>
            <a:ext cx="9936000" cy="595440"/>
          </a:xfrm>
          <a:prstGeom prst="rect">
            <a:avLst/>
          </a:prstGeom>
          <a:solidFill>
            <a:srgbClr val="006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Rektangel 7"/>
          <p:cNvSpPr/>
          <p:nvPr/>
        </p:nvSpPr>
        <p:spPr>
          <a:xfrm>
            <a:off x="0" y="0"/>
            <a:ext cx="9906120" cy="115920"/>
          </a:xfrm>
          <a:prstGeom prst="rect">
            <a:avLst/>
          </a:prstGeom>
          <a:solidFill>
            <a:srgbClr val="006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6" name="Billede 9" descr="Image1.png"/>
          <p:cNvPicPr/>
          <p:nvPr/>
        </p:nvPicPr>
        <p:blipFill>
          <a:blip r:embed="rId2"/>
          <a:stretch/>
        </p:blipFill>
        <p:spPr>
          <a:xfrm>
            <a:off x="8675640" y="6410160"/>
            <a:ext cx="865080" cy="31140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dk/imgres?imgurl=http://payload.cargocollective.com/1/0/22522/263789/vestas_logo_905.jpg&amp;imgrefurl=http://www.megadesign.dk/263789/Vestas&amp;usg=__9P0XRyye9fTlePkZqop_YrpZSQ0=&amp;h=300&amp;w=782&amp;sz=36&amp;hl=da&amp;start=4&amp;zoom=1&amp;tbnid=xBNFwf7DEuJs8M:&amp;tbnh=55&amp;tbnw=143&amp;ei=InMhT7XaBfD74QS9voWWBQ&amp;prev=/search?q=vestas+logo&amp;um=1&amp;hl=da&amp;sa=N&amp;gbv=2&amp;tbm=isch&amp;um=1&amp;itbs=1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google.dk/imgres?imgurl=http://www.logotypes101.com/files/377/037d3cd418e9b53adf46244bc8ec122e/lrg_Ikea.gif&amp;imgrefurl=http://www.logotypes101.com/free_vector_logo/35351/Ikea.aspx&amp;usg=__zLjKI22NFwplb7aSxh0ty67UNNo=&amp;h=300&amp;w=300&amp;sz=3&amp;hl=da&amp;start=10&amp;zoom=1&amp;tbnid=he0mM3-FpWJ4OM:&amp;tbnh=116&amp;tbnw=116&amp;ei=M3MhT7X2FsfU4QSq2cjKCA&amp;prev=/search?q=ikea+logo&amp;um=1&amp;hl=da&amp;sa=N&amp;gbv=2&amp;tbm=isch&amp;um=1&amp;itbs=1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www.google.dk/imgres?imgurl=http://www.nrgi.dk/files/nrgi.dk/NRGi%20Designguide/Logo/NRGi%20logo/JPG/NRGi_logo_v1_uden_payoff.jpg&amp;imgrefurl=http://www.nrgi.dk/om+nrgi/nrgi&apos;s+designguide/nrgi+logo&amp;usg=__l_NlNokPhL_9qfg_qPl2w0pyyg0=&amp;h=901&amp;w=1500&amp;sz=44&amp;hl=da&amp;start=1&amp;zoom=1&amp;tbnid=Al58_5zDKbHK0M:&amp;tbnh=90&amp;tbnw=150&amp;ei=Q3MhT9vKHcOH4gT9wojyBw&amp;prev=/search?q=NRGI+logo&amp;um=1&amp;hl=da&amp;sa=N&amp;gbv=2&amp;tbm=isch&amp;um=1&amp;itbs=1" TargetMode="External"/><Relationship Id="rId6" Type="http://schemas.openxmlformats.org/officeDocument/2006/relationships/image" Target="../media/image11.jpeg"/><Relationship Id="rId7" Type="http://schemas.openxmlformats.org/officeDocument/2006/relationships/hyperlink" Target="http://www.google.dk/imgres?imgurl=http://www.internshipsdownunder.com/images/partner-universities/VIA_logo.png&amp;imgrefurl=http://www.internshipsdownunder.com/partners&amp;usg=__Ki69HIHpaenTr0y3tBNCZyTMq1w=&amp;h=261&amp;w=754&amp;sz=78&amp;hl=da&amp;start=1&amp;zoom=1&amp;tbnid=YTwBzIT9Epf3mM:&amp;tbnh=49&amp;tbnw=142&amp;ei=UnMhT7K4NfPO4QT-xLHBCA&amp;prev=/search?q=VIA+university+college+logo&amp;um=1&amp;hl=da&amp;sa=N&amp;gbv=2&amp;tbm=isch&amp;um=1&amp;itbs=1" TargetMode="External"/><Relationship Id="rId8" Type="http://schemas.openxmlformats.org/officeDocument/2006/relationships/image" Target="../media/image12.jpeg"/><Relationship Id="rId9" Type="http://schemas.openxmlformats.org/officeDocument/2006/relationships/hyperlink" Target="http://www.google.dk/imgres?imgurl=https://www.projektzone.dk/dokumenter/logo1291194314_AFP%20logo-1.jpg&amp;imgrefurl=https://www.projektzone.dk/print.php?id=39&amp;usg=__ZJGGxlvDWyHHGlLduw2m5R_p-Fw=&amp;h=436&amp;w=850&amp;sz=102&amp;hl=da&amp;start=1&amp;zoom=1&amp;tbnid=oME7r78ooWCEJM:&amp;tbnh=74&amp;tbnw=145&amp;ei=YXMhT6yFF8H34QS687WmCA&amp;prev=/search?q=agro+food+park+logo&amp;um=1&amp;hl=da&amp;sa=N&amp;gbv=2&amp;tbm=isch&amp;um=1&amp;itbs=1" TargetMode="External"/><Relationship Id="rId10" Type="http://schemas.openxmlformats.org/officeDocument/2006/relationships/image" Target="../media/image13.jpeg"/><Relationship Id="rId11" Type="http://schemas.openxmlformats.org/officeDocument/2006/relationships/hyperlink" Target="http://www.google.dk/imgres?imgurl=http://www.hollandpropertyplaza.com/holpp/en/Uploads/grontmij/grontmij%20logo%20eps.jpg&amp;imgrefurl=http://www.hollandpropertyplaza.com/holpp/en/content/prikaz_membera_PMP.asp?mid=7&amp;usg=__v1HmchMMA8ZN3hgGInAo6Wh__Y8=&amp;h=67&amp;w=249&amp;sz=23&amp;hl=da&amp;start=4&amp;zoom=1&amp;tbnid=q2NTJLoftHv3IM:&amp;tbnh=30&amp;tbnw=111&amp;ei=dnMhT4W1NoaB4gTVqujKCA&amp;prev=/search?q=Grontmij+logo&amp;um=1&amp;hl=da&amp;sa=N&amp;gbv=2&amp;tbm=isch&amp;um=1&amp;itbs=1" TargetMode="External"/><Relationship Id="rId12" Type="http://schemas.openxmlformats.org/officeDocument/2006/relationships/image" Target="../media/image14.jpeg"/><Relationship Id="rId13" Type="http://schemas.openxmlformats.org/officeDocument/2006/relationships/hyperlink" Target="http://www.google.dk/imgres?imgurl=http://www.ramboll-management.dk/~/media/Images/RM/RM%20DK%20and%20RM%20Group/Images/270x270/Ramboll_logo_270x270.ashx?bc=ffffff&amp;w=270&amp;h=&amp;as=1&amp;imgrefurl=http://www.ramboll-management.dk/news/viewnews?newsid=D418AAA0-D950-492D-B239-EB2A37B50B29&amp;usg=__bbt9DY0JRX43eCXfxjxMpleR7Fw=&amp;h=270&amp;w=270&amp;sz=26&amp;hl=da&amp;start=1&amp;zoom=1&amp;tbnid=2VGE7S_zNoNFzM:&amp;tbnh=113&amp;tbnw=113&amp;ei=hHMhT6LAIMr24QS_wLHZCA&amp;prev=/search?q=ramb&#248;ll+logo&amp;um=1&amp;hl=da&amp;sa=N&amp;gbv=2&amp;tbm=isch&amp;um=1&amp;itbs=1" TargetMode="External"/><Relationship Id="rId14" Type="http://schemas.openxmlformats.org/officeDocument/2006/relationships/image" Target="../media/image15.jpeg"/><Relationship Id="rId15" Type="http://schemas.openxmlformats.org/officeDocument/2006/relationships/hyperlink" Target="http://www.google.dk/imgres?imgurl=http://www.incuba-sp.dk/files/incuba_logo_20070611.jpg&amp;imgrefurl=http://www.incuba-sp.dk/incuba-presse.asp&amp;usg=__p7nycPoTmI_TJGxvVA31XdP2Ckc=&amp;h=222&amp;w=253&amp;sz=18&amp;hl=da&amp;start=1&amp;zoom=1&amp;tbnid=eVmk8ADhCEzUBM:&amp;tbnh=97&amp;tbnw=111&amp;ei=k3MhT8i2I-OI4gS71P2zCA&amp;prev=/search?q=incuba+science+park+logo&amp;um=1&amp;hl=da&amp;sa=N&amp;gbv=2&amp;tbm=isch&amp;um=1&amp;itbs=1" TargetMode="External"/><Relationship Id="rId16" Type="http://schemas.openxmlformats.org/officeDocument/2006/relationships/image" Target="../media/image16.jpeg"/><Relationship Id="rId17" Type="http://schemas.openxmlformats.org/officeDocument/2006/relationships/hyperlink" Target="http://www.google.dk/imgres?imgurl=http://www.top1000.dk/media/company/profile/1882/content/EnergiDanmark-logo.jpg&amp;imgrefurl=http://www.top1000.dk/challenge/om-os/presserum&amp;usg=___yGTGU-sPDnqi-8MxyaX5P68vY0=&amp;h=70&amp;w=180&amp;sz=23&amp;hl=da&amp;start=1&amp;zoom=1&amp;tbnid=0z5E_ZtAqFql2M:&amp;tbnh=39&amp;tbnw=101&amp;ei=r3MhT4WxDqak4gT1msjdCw&amp;prev=/search?q=energi+danmark+logo&amp;um=1&amp;hl=da&amp;sa=N&amp;gbv=2&amp;tbm=isch&amp;um=1&amp;itbs=1" TargetMode="External"/><Relationship Id="rId18" Type="http://schemas.openxmlformats.org/officeDocument/2006/relationships/image" Target="../media/image17.jpeg"/><Relationship Id="rId19" Type="http://schemas.openxmlformats.org/officeDocument/2006/relationships/image" Target="../media/image18.jpeg"/><Relationship Id="rId20" Type="http://schemas.openxmlformats.org/officeDocument/2006/relationships/hyperlink" Target="http://www.midttrafik.dk/" TargetMode="External"/><Relationship Id="rId21" Type="http://schemas.openxmlformats.org/officeDocument/2006/relationships/image" Target="../media/image19.jpeg"/><Relationship Id="rId22" Type="http://schemas.openxmlformats.org/officeDocument/2006/relationships/hyperlink" Target="http://www.google.dk/imgres?imgurl=http://www.abc-aalborg.dk/Sponsor/Store/Atea.jpg&amp;imgrefurl=http://www.abc-aalborg.dk/sponsor.asp&amp;usg=__XxI_kPcPyu1YswCLsDk7BrnV7l8=&amp;h=131&amp;w=500&amp;sz=47&amp;hl=da&amp;start=2&amp;zoom=1&amp;tbnid=Onz5SMv4QK9JYM:&amp;tbnh=34&amp;tbnw=130&amp;ei=NZMmT8XpF4nj4QSA7a36DA&amp;prev=/search?q=atea&amp;um=1&amp;hl=da&amp;sa=N&amp;gbv=2&amp;tbm=isch&amp;um=1&amp;itbs=1" TargetMode="External"/><Relationship Id="rId23" Type="http://schemas.openxmlformats.org/officeDocument/2006/relationships/image" Target="../media/image20.jpeg"/><Relationship Id="rId24" Type="http://schemas.openxmlformats.org/officeDocument/2006/relationships/hyperlink" Target="http://www.co2030.dk/da.aspx" TargetMode="External"/><Relationship Id="rId25" Type="http://schemas.openxmlformats.org/officeDocument/2006/relationships/image" Target="../media/image21.png"/><Relationship Id="rId2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1207800" y="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898989"/>
                </a:solidFill>
                <a:latin typeface="Calibri"/>
              </a:rPr>
              <a:t>Klimapartnerskab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898989"/>
                </a:solidFill>
                <a:latin typeface="Calibri"/>
              </a:rPr>
              <a:t>Trippel Hel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4" name="Billede 3" descr="co2030_with_aarhus_rgb.png"/>
          <p:cNvPicPr/>
          <p:nvPr/>
        </p:nvPicPr>
        <p:blipFill>
          <a:blip r:embed="rId1"/>
          <a:stretch/>
        </p:blipFill>
        <p:spPr>
          <a:xfrm>
            <a:off x="1754280" y="1989000"/>
            <a:ext cx="647388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50760" y="709200"/>
            <a:ext cx="7963200" cy="6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  <a:ea typeface="Tahoma"/>
              </a:rPr>
              <a:t>Lad os gentænke vores transportvan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Tekstboks 7"/>
          <p:cNvSpPr/>
          <p:nvPr/>
        </p:nvSpPr>
        <p:spPr>
          <a:xfrm>
            <a:off x="1208160" y="2060640"/>
            <a:ext cx="7489800" cy="2837160"/>
          </a:xfrm>
          <a:prstGeom prst="rect">
            <a:avLst/>
          </a:prstGeom>
          <a:solidFill>
            <a:srgbClr val="b9cde5"/>
          </a:solidFill>
          <a:ln w="9360">
            <a:solidFill>
              <a:srgbClr val="b9c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1800" spc="-1" strike="noStrike">
                <a:solidFill>
                  <a:srgbClr val="333333"/>
                </a:solidFill>
                <a:latin typeface="Verdana"/>
                <a:ea typeface="Calibri"/>
              </a:rPr>
              <a:t>”</a:t>
            </a:r>
            <a:r>
              <a:rPr b="0" i="1" lang="da-DK" sz="1800" spc="-1" strike="noStrike">
                <a:solidFill>
                  <a:srgbClr val="333333"/>
                </a:solidFill>
                <a:latin typeface="Verdana"/>
                <a:ea typeface="Calibri"/>
              </a:rPr>
              <a:t>Vi behøver absolut ikke vente på, at kommuner stiller dyre infrastrukturløsninger til rådighed for o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1800" spc="-1" strike="noStrike">
                <a:solidFill>
                  <a:srgbClr val="333333"/>
                </a:solidFill>
                <a:latin typeface="Verdana"/>
                <a:ea typeface="Calibri"/>
              </a:rPr>
              <a:t>I 2010 viste askeskyen over Nordeuropa, at en masse transport helt kunne undgås, ved at folk arbejdede hjemme eller afholdte videokonference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1800" spc="-1" strike="noStrike">
                <a:solidFill>
                  <a:srgbClr val="333333"/>
                </a:solidFill>
                <a:latin typeface="Verdana"/>
                <a:ea typeface="Calibri"/>
              </a:rPr>
              <a:t>Så lad os starte med at gennemtænke vores transportadfærd og udnytte den eksisterende IT-teknologi”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333333"/>
                </a:solidFill>
                <a:latin typeface="Verdana"/>
                <a:ea typeface="Calibri"/>
              </a:rPr>
              <a:t>Michael Sva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333333"/>
                </a:solidFill>
                <a:latin typeface="Verdana"/>
                <a:ea typeface="Calibri"/>
              </a:rPr>
              <a:t>Transportdirektør D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3" name="Picture 6" descr="http://di.dk/SiteCollectionImages/Presse/Pressebilleder%20ledelse/Michael%20Svane.jpg"/>
          <p:cNvPicPr/>
          <p:nvPr/>
        </p:nvPicPr>
        <p:blipFill>
          <a:blip r:embed="rId1"/>
          <a:stretch/>
        </p:blipFill>
        <p:spPr>
          <a:xfrm>
            <a:off x="6824520" y="4292640"/>
            <a:ext cx="245772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75800" y="709200"/>
            <a:ext cx="8280360" cy="6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Tahoma"/>
                <a:ea typeface="Tahoma"/>
              </a:rPr>
              <a:t>Walk the talk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Æseløre 6"/>
          <p:cNvSpPr/>
          <p:nvPr/>
        </p:nvSpPr>
        <p:spPr>
          <a:xfrm>
            <a:off x="560520" y="1989000"/>
            <a:ext cx="2376360" cy="288000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Æseløre 7"/>
          <p:cNvSpPr/>
          <p:nvPr/>
        </p:nvSpPr>
        <p:spPr>
          <a:xfrm>
            <a:off x="3657600" y="1989000"/>
            <a:ext cx="2374920" cy="288000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Æseløre 10"/>
          <p:cNvSpPr/>
          <p:nvPr/>
        </p:nvSpPr>
        <p:spPr>
          <a:xfrm>
            <a:off x="6753240" y="1989000"/>
            <a:ext cx="2376360" cy="288000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Tekstboks 11"/>
          <p:cNvSpPr/>
          <p:nvPr/>
        </p:nvSpPr>
        <p:spPr>
          <a:xfrm>
            <a:off x="704880" y="213372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1600" spc="-1" strike="noStrike">
                <a:solidFill>
                  <a:srgbClr val="000000"/>
                </a:solidFill>
                <a:latin typeface="Calibri"/>
              </a:rPr>
              <a:t>Klimaplanen CO203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Tekstboks 12"/>
          <p:cNvSpPr/>
          <p:nvPr/>
        </p:nvSpPr>
        <p:spPr>
          <a:xfrm>
            <a:off x="3800520" y="2133720"/>
            <a:ext cx="20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1600" spc="-1" strike="noStrike">
                <a:solidFill>
                  <a:srgbClr val="000000"/>
                </a:solidFill>
                <a:latin typeface="Calibri"/>
              </a:rPr>
              <a:t>CS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Tekstboks 13"/>
          <p:cNvSpPr/>
          <p:nvPr/>
        </p:nvSpPr>
        <p:spPr>
          <a:xfrm>
            <a:off x="6897600" y="213372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1600" spc="-1" strike="noStrike">
                <a:solidFill>
                  <a:srgbClr val="000000"/>
                </a:solidFill>
                <a:latin typeface="Calibri"/>
              </a:rPr>
              <a:t>Personalepoliti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1" name="Picture 2" descr=""/>
          <p:cNvPicPr/>
          <p:nvPr/>
        </p:nvPicPr>
        <p:blipFill>
          <a:blip r:embed="rId1"/>
          <a:srcRect l="33300" t="14276" r="31602" b="5806"/>
          <a:stretch/>
        </p:blipFill>
        <p:spPr>
          <a:xfrm>
            <a:off x="1136520" y="2637000"/>
            <a:ext cx="1295640" cy="184464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2" descr=""/>
          <p:cNvPicPr/>
          <p:nvPr/>
        </p:nvPicPr>
        <p:blipFill>
          <a:blip r:embed="rId2"/>
          <a:srcRect l="31503" t="8518" r="29799" b="5806"/>
          <a:stretch/>
        </p:blipFill>
        <p:spPr>
          <a:xfrm>
            <a:off x="4160880" y="2565360"/>
            <a:ext cx="1404720" cy="194328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3" descr=""/>
          <p:cNvPicPr/>
          <p:nvPr/>
        </p:nvPicPr>
        <p:blipFill>
          <a:blip r:embed="rId3"/>
          <a:srcRect l="30602" t="7914" r="28900" b="3523"/>
          <a:stretch/>
        </p:blipFill>
        <p:spPr>
          <a:xfrm>
            <a:off x="7256520" y="2565360"/>
            <a:ext cx="13698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50760" y="709200"/>
            <a:ext cx="7963200" cy="6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  <a:ea typeface="Tahoma"/>
              </a:rPr>
              <a:t>Samarbejdsprocess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Tekstboks 8"/>
          <p:cNvSpPr/>
          <p:nvPr/>
        </p:nvSpPr>
        <p:spPr>
          <a:xfrm>
            <a:off x="920880" y="17733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Motivation </a:t>
            </a:r>
            <a:r>
              <a:rPr b="0" lang="da-DK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Frustration </a:t>
            </a:r>
            <a:r>
              <a:rPr b="0" lang="da-DK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Commitment </a:t>
            </a:r>
            <a:r>
              <a:rPr b="0" lang="da-DK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Innovation … 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Lige forbindelse 6"/>
          <p:cNvSpPr/>
          <p:nvPr/>
        </p:nvSpPr>
        <p:spPr>
          <a:xfrm>
            <a:off x="2720880" y="4005360"/>
            <a:ext cx="172728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Lige forbindelse 10"/>
          <p:cNvSpPr/>
          <p:nvPr/>
        </p:nvSpPr>
        <p:spPr>
          <a:xfrm>
            <a:off x="4448160" y="4005360"/>
            <a:ext cx="433440" cy="129528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Lige forbindelse 12"/>
          <p:cNvSpPr/>
          <p:nvPr/>
        </p:nvSpPr>
        <p:spPr>
          <a:xfrm flipV="1">
            <a:off x="4881600" y="2781360"/>
            <a:ext cx="503280" cy="251928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Lige forbindelse 14"/>
          <p:cNvSpPr/>
          <p:nvPr/>
        </p:nvSpPr>
        <p:spPr>
          <a:xfrm>
            <a:off x="5384160" y="2781360"/>
            <a:ext cx="73080" cy="50328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Lige forbindelse 16"/>
          <p:cNvSpPr/>
          <p:nvPr/>
        </p:nvSpPr>
        <p:spPr>
          <a:xfrm>
            <a:off x="5457960" y="3284640"/>
            <a:ext cx="43164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Tekstboks 17"/>
          <p:cNvSpPr/>
          <p:nvPr/>
        </p:nvSpPr>
        <p:spPr>
          <a:xfrm>
            <a:off x="5961240" y="2781360"/>
            <a:ext cx="50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5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50760" y="709200"/>
            <a:ext cx="7963200" cy="6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600" spc="-1" strike="noStrike">
                <a:solidFill>
                  <a:srgbClr val="000000"/>
                </a:solidFill>
                <a:latin typeface="Tahoma"/>
                <a:ea typeface="Tahoma"/>
              </a:rPr>
              <a:t>Nedslag: Hvor står vi i dag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Picture 13" descr=""/>
          <p:cNvPicPr/>
          <p:nvPr/>
        </p:nvPicPr>
        <p:blipFill>
          <a:blip r:embed="rId1"/>
          <a:stretch/>
        </p:blipFill>
        <p:spPr>
          <a:xfrm>
            <a:off x="5168880" y="1916280"/>
            <a:ext cx="3024360" cy="376380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7" descr=""/>
          <p:cNvPicPr/>
          <p:nvPr/>
        </p:nvPicPr>
        <p:blipFill>
          <a:blip r:embed="rId2"/>
          <a:stretch/>
        </p:blipFill>
        <p:spPr>
          <a:xfrm>
            <a:off x="1857240" y="1916280"/>
            <a:ext cx="288000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50760" y="709200"/>
            <a:ext cx="7963200" cy="6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600" spc="-1" strike="noStrike">
                <a:solidFill>
                  <a:srgbClr val="000000"/>
                </a:solidFill>
                <a:latin typeface="Tahoma"/>
                <a:ea typeface="Tahoma"/>
              </a:rPr>
              <a:t>Et nyt mindset </a:t>
            </a:r>
            <a:br>
              <a:rPr sz="3600"/>
            </a:br>
            <a:r>
              <a:rPr b="1" lang="da-DK" sz="3600" spc="-1" strike="noStrike">
                <a:solidFill>
                  <a:srgbClr val="000000"/>
                </a:solidFill>
                <a:latin typeface="Tahoma"/>
                <a:ea typeface="Tahoma"/>
              </a:rPr>
              <a:t>- morgendagens mobilite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992160" y="1989000"/>
          <a:ext cx="8497800" cy="4032360"/>
        </p:xfrm>
        <a:graphic>
          <a:graphicData uri="http://schemas.openxmlformats.org/drawingml/2006/table">
            <a:tbl>
              <a:tblPr/>
              <a:tblGrid>
                <a:gridCol w="4248000"/>
                <a:gridCol w="4249800"/>
              </a:tblGrid>
              <a:tr h="28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000" spc="-1" strike="noStrike">
                          <a:solidFill>
                            <a:srgbClr val="ffffff"/>
                          </a:solidFill>
                          <a:latin typeface="Verdana"/>
                          <a:ea typeface="Calibri"/>
                        </a:rPr>
                        <a:t>I d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2c02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000" spc="-1" strike="noStrike">
                          <a:solidFill>
                            <a:srgbClr val="ffffff"/>
                          </a:solidFill>
                          <a:latin typeface="Verdana"/>
                          <a:ea typeface="Calibri"/>
                        </a:rPr>
                        <a:t>I morg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2c02f"/>
                    </a:solidFill>
                  </a:tcPr>
                </a:tc>
              </a:tr>
              <a:tr h="288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0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Bredere vej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0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Flere busban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287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0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Ene i b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0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Flere i b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  <a:tr h="289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0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Biler på dies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0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Biler på 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287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0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Cykel op ad bakk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0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Cykel op ad bakke - let med 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  <a:tr h="287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0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Cykel er s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0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Cykel er co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289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0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Transport fra dør til dø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0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Kombinationsrejs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  <a:tr h="287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0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P-pladser kos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0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P-pladser bespa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288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0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Vi kører ale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0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Vi kører samm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  <a:tr h="28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0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Kørsel er spildt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0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Kørsel er kvalitetst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288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0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Bus er forsink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0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Realtid i buspl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  <a:tr h="287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0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Busplan på tav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0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Link/App til Rejseplan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28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0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Busser n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0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Busser h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  <a:tr h="288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0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Cykel er s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0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Cykel er co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50760" y="709200"/>
            <a:ext cx="7963200" cy="6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600" spc="-1" strike="noStrike">
                <a:solidFill>
                  <a:srgbClr val="000000"/>
                </a:solidFill>
                <a:latin typeface="Tahoma"/>
                <a:ea typeface="Tahoma"/>
              </a:rPr>
              <a:t>Perspektiv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Tekstboks 4"/>
          <p:cNvSpPr/>
          <p:nvPr/>
        </p:nvSpPr>
        <p:spPr>
          <a:xfrm>
            <a:off x="1008360" y="1916280"/>
            <a:ext cx="5147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De enkelte medarbejdere – nuværende og fremtidi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Den enkelte virksomhed –  de 3 bundlinj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Virksomhederne – nuværende og fremtidi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Erhvervsområdet – samarbejde og inspi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Eksport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dsholder til diasnummer 4"/>
          <p:cNvSpPr/>
          <p:nvPr/>
        </p:nvSpPr>
        <p:spPr>
          <a:xfrm>
            <a:off x="257040" y="6372360"/>
            <a:ext cx="663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ffffff"/>
                </a:solidFill>
                <a:latin typeface="Tahoma"/>
                <a:ea typeface="Tahoma"/>
              </a:rPr>
              <a:t>Side </a:t>
            </a:r>
            <a:fld id="{AA4AEA39-DFA8-46FA-BB8B-73D9C132C82B}" type="slidenum">
              <a:rPr b="1" lang="da-DK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72880" y="188640"/>
            <a:ext cx="8420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da-DK" sz="2800" spc="-1" strike="noStrike">
                <a:solidFill>
                  <a:srgbClr val="000000"/>
                </a:solidFill>
                <a:latin typeface="Calibri"/>
              </a:rPr>
              <a:t>Strategiske hovedsp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6" name="Billede 3" descr="Strategiske Hovedspor.jpg"/>
          <p:cNvPicPr/>
          <p:nvPr/>
        </p:nvPicPr>
        <p:blipFill>
          <a:blip r:embed="rId1"/>
          <a:srcRect l="934" t="17473" r="0" b="12480"/>
          <a:stretch/>
        </p:blipFill>
        <p:spPr>
          <a:xfrm>
            <a:off x="1052640" y="1803240"/>
            <a:ext cx="8269200" cy="40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60160" y="691920"/>
            <a:ext cx="3354120" cy="6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000000"/>
                </a:solidFill>
                <a:latin typeface="Tahoma"/>
                <a:ea typeface="Tahoma"/>
              </a:rPr>
              <a:t>Skejby i da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Titel 9"/>
          <p:cNvSpPr/>
          <p:nvPr/>
        </p:nvSpPr>
        <p:spPr>
          <a:xfrm>
            <a:off x="5024520" y="692280"/>
            <a:ext cx="33544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000000"/>
                </a:solidFill>
                <a:latin typeface="Tahoma"/>
                <a:ea typeface="Tahoma"/>
              </a:rPr>
              <a:t>Drømm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9" name="Picture 2" descr="http://www.co2030.dk/~/media/Subsites/CO2030/Billeder/438x187---Undersider/438x200-Biler-i-koe.ashx"/>
          <p:cNvPicPr/>
          <p:nvPr/>
        </p:nvPicPr>
        <p:blipFill>
          <a:blip r:embed="rId1"/>
          <a:stretch/>
        </p:blipFill>
        <p:spPr>
          <a:xfrm>
            <a:off x="488880" y="2421000"/>
            <a:ext cx="4172040" cy="190476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2" descr="http://www.co2030.dk/~/media/Subsites/CO2030/Billeder/438x187---Undersider/438x200Groenne-byrum.ashx"/>
          <p:cNvPicPr/>
          <p:nvPr/>
        </p:nvPicPr>
        <p:blipFill>
          <a:blip r:embed="rId2"/>
          <a:stretch/>
        </p:blipFill>
        <p:spPr>
          <a:xfrm>
            <a:off x="5097600" y="2421000"/>
            <a:ext cx="4176720" cy="19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60520" y="691920"/>
            <a:ext cx="4176720" cy="6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000000"/>
                </a:solidFill>
                <a:latin typeface="Tahoma"/>
                <a:ea typeface="Tahoma"/>
              </a:rPr>
              <a:t>Energiforbrug</a:t>
            </a:r>
            <a:br>
              <a:rPr sz="4000"/>
            </a:br>
            <a:r>
              <a:rPr b="1" lang="da-DK" sz="4000" spc="-1" strike="noStrike">
                <a:solidFill>
                  <a:srgbClr val="000000"/>
                </a:solidFill>
                <a:latin typeface="Tahoma"/>
                <a:ea typeface="Tahoma"/>
              </a:rPr>
              <a:t>Trængs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Titel 9"/>
          <p:cNvSpPr/>
          <p:nvPr/>
        </p:nvSpPr>
        <p:spPr>
          <a:xfrm>
            <a:off x="5024520" y="692280"/>
            <a:ext cx="33544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000000"/>
                </a:solidFill>
                <a:latin typeface="Tahoma"/>
                <a:ea typeface="Tahoma"/>
              </a:rPr>
              <a:t>Opladn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000000"/>
                </a:solidFill>
                <a:latin typeface="Tahoma"/>
                <a:ea typeface="Tahoma"/>
              </a:rPr>
              <a:t>Frihe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3" name="Picture 2" descr="http://www.co2030.dk/~/media/Subsites/CO2030/Billeder/438x187---Undersider/438x200-Biler-i-koe.ashx"/>
          <p:cNvPicPr/>
          <p:nvPr/>
        </p:nvPicPr>
        <p:blipFill>
          <a:blip r:embed="rId1"/>
          <a:stretch/>
        </p:blipFill>
        <p:spPr>
          <a:xfrm>
            <a:off x="488880" y="2421000"/>
            <a:ext cx="4172040" cy="190476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2" descr="http://www.co2030.dk/~/media/Subsites/CO2030/Billeder/438x187---Undersider/438x200Groenne-byrum.ashx"/>
          <p:cNvPicPr/>
          <p:nvPr/>
        </p:nvPicPr>
        <p:blipFill>
          <a:blip r:embed="rId2"/>
          <a:stretch/>
        </p:blipFill>
        <p:spPr>
          <a:xfrm>
            <a:off x="5097600" y="2421000"/>
            <a:ext cx="4176720" cy="190656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2" descr=""/>
          <p:cNvPicPr/>
          <p:nvPr/>
        </p:nvPicPr>
        <p:blipFill>
          <a:blip r:embed="rId3"/>
          <a:stretch/>
        </p:blipFill>
        <p:spPr>
          <a:xfrm>
            <a:off x="3800520" y="4797360"/>
            <a:ext cx="235260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50760" y="709200"/>
            <a:ext cx="7963200" cy="6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600" spc="-1" strike="noStrike">
                <a:solidFill>
                  <a:srgbClr val="000000"/>
                </a:solidFill>
                <a:latin typeface="Tahoma"/>
                <a:ea typeface="Tahoma"/>
              </a:rPr>
              <a:t>De deltagende virksomhed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ekstboks 8"/>
          <p:cNvSpPr/>
          <p:nvPr/>
        </p:nvSpPr>
        <p:spPr>
          <a:xfrm>
            <a:off x="6537240" y="270828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alibri"/>
              </a:rPr>
              <a:t>Projektafdelingen DN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8" name="Picture 2" descr="http://t1.gstatic.com/images?q=tbn:ANd9GcSXwuoLISSzpE8Znz5i_yWDCgCnYQ8i-mpBoo6DQaYqv_bsqWSxrYkoV8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28880" y="4005360"/>
            <a:ext cx="1361880" cy="5238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4" descr="http://t2.gstatic.com/images?q=tbn:ANd9GcSHVAvXjucEInMp9QkJv_TPBke68dbdsLg7Ei3dPvjePQVP75IQ7FUIDcc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29600" y="501336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6" descr="http://t0.gstatic.com/images?q=tbn:ANd9GcTyNSfaT00Za5gijR0EX410ExDDkB4o0lFaslHUv3zB-Ba2DQm4Yved5XNK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928880" y="2349360"/>
            <a:ext cx="1428840" cy="8575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http://t1.gstatic.com/images?q=tbn:ANd9GcRPoa5mLyfo_TYswCcQ9ZPw4WlerIImJ6esnOaHT7DehCuuiAUy6m1FNT4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952880" y="2708280"/>
            <a:ext cx="1352520" cy="46656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10" descr="http://t3.gstatic.com/images?q=tbn:ANd9GcSbT2R0JLIKczF1Nq5y3H1MjJIz8-5ZCVIWAx4LLVzlBTxWKgYHE3j2DVqL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44520" y="3573360"/>
            <a:ext cx="1380960" cy="70488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12" descr="http://t3.gstatic.com/images?q=tbn:ANd9GcQNkjNH8aLlj1zw0Bi4vlz0N7vVoQUpt_fvK-PEjCJViPtNyF7FUDq86Q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513240" y="2708280"/>
            <a:ext cx="1057320" cy="28584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4" descr="http://t0.gstatic.com/images?q=tbn:ANd9GcRKh2xAAEAsYiE5PQl4BpLLPkWVXJ7cHI-W_M28FUxX_7i_l8AFGU4HRw4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584520" y="3284640"/>
            <a:ext cx="1076400" cy="107640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16" descr="http://t0.gstatic.com/images?q=tbn:ANd9GcRMUeLSqxjzFSpHl151s6l_WZoaquv2YVrJbshZ5XCNvOCPtV3Ip2rrOHo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415800" y="2276640"/>
            <a:ext cx="1057320" cy="9237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18" descr="http://t0.gstatic.com/images?q=tbn:ANd9GcQb9ER7IMtzyCEplZixNcOmuEYh3E1b42UlKuzhQMD34-DgQdWLCbwqlw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2144880" y="3284640"/>
            <a:ext cx="961920" cy="37152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22" descr="http://www.danorc.dk/?q=system/files/aarhusuniversitetshospitalauhv_eng_0.jpg&amp;1274384691"/>
          <p:cNvPicPr/>
          <p:nvPr/>
        </p:nvPicPr>
        <p:blipFill>
          <a:blip r:embed="rId19"/>
          <a:stretch/>
        </p:blipFill>
        <p:spPr>
          <a:xfrm>
            <a:off x="6537240" y="3284640"/>
            <a:ext cx="2016360" cy="736560"/>
          </a:xfrm>
          <a:prstGeom prst="rect">
            <a:avLst/>
          </a:prstGeom>
          <a:ln w="0">
            <a:noFill/>
          </a:ln>
        </p:spPr>
      </p:pic>
      <p:sp>
        <p:nvSpPr>
          <p:cNvPr id="478" name="Tekstboks 14"/>
          <p:cNvSpPr/>
          <p:nvPr/>
        </p:nvSpPr>
        <p:spPr>
          <a:xfrm>
            <a:off x="216000" y="1844640"/>
            <a:ext cx="20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1400" spc="-1" strike="noStrike">
                <a:solidFill>
                  <a:srgbClr val="000000"/>
                </a:solidFill>
                <a:latin typeface="Calibri"/>
              </a:rPr>
              <a:t>Miljøvirksomhed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Tekstboks 15"/>
          <p:cNvSpPr/>
          <p:nvPr/>
        </p:nvSpPr>
        <p:spPr>
          <a:xfrm>
            <a:off x="3584520" y="184464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1400" spc="-1" strike="noStrike">
                <a:solidFill>
                  <a:srgbClr val="000000"/>
                </a:solidFill>
                <a:latin typeface="Calibri"/>
              </a:rPr>
              <a:t>Rådgive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Tekstboks 16"/>
          <p:cNvSpPr/>
          <p:nvPr/>
        </p:nvSpPr>
        <p:spPr>
          <a:xfrm>
            <a:off x="4665600" y="1844640"/>
            <a:ext cx="188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1400" spc="-1" strike="noStrike">
                <a:solidFill>
                  <a:srgbClr val="000000"/>
                </a:solidFill>
                <a:latin typeface="Calibri"/>
              </a:rPr>
              <a:t>Uddannelsesinstitu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Tekstboks 17"/>
          <p:cNvSpPr/>
          <p:nvPr/>
        </p:nvSpPr>
        <p:spPr>
          <a:xfrm>
            <a:off x="6608880" y="184464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1400" spc="-1" strike="noStrike">
                <a:solidFill>
                  <a:srgbClr val="000000"/>
                </a:solidFill>
                <a:latin typeface="Calibri"/>
              </a:rPr>
              <a:t>Universitetshospitale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Tekstboks 18"/>
          <p:cNvSpPr/>
          <p:nvPr/>
        </p:nvSpPr>
        <p:spPr>
          <a:xfrm>
            <a:off x="1784520" y="1844640"/>
            <a:ext cx="16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1400" spc="-1" strike="noStrike">
                <a:solidFill>
                  <a:srgbClr val="000000"/>
                </a:solidFill>
                <a:latin typeface="Calibri"/>
              </a:rPr>
              <a:t>Energivirksomhed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3" name="Picture 2" descr="Midttrafik - logo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8624880" y="2421000"/>
            <a:ext cx="1136520" cy="615960"/>
          </a:xfrm>
          <a:prstGeom prst="rect">
            <a:avLst/>
          </a:prstGeom>
          <a:ln w="0">
            <a:noFill/>
          </a:ln>
        </p:spPr>
      </p:pic>
      <p:sp>
        <p:nvSpPr>
          <p:cNvPr id="484" name="Tekstboks 20"/>
          <p:cNvSpPr/>
          <p:nvPr/>
        </p:nvSpPr>
        <p:spPr>
          <a:xfrm>
            <a:off x="8624880" y="184464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1400" spc="-1" strike="noStrike">
                <a:solidFill>
                  <a:srgbClr val="000000"/>
                </a:solidFill>
                <a:latin typeface="Calibri"/>
              </a:rPr>
              <a:t>Trafikselska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5" name="Picture 2" descr="http://t1.gstatic.com/images?q=tbn:ANd9GcSUcRiJV9J03-tYDZwrCl6fjqPKEtyo1PkURsixlquUpqFRWIe-TNOvXihb">
            <a:hlinkClick r:id="rId22"/>
          </p:cNvPr>
          <p:cNvPicPr/>
          <p:nvPr/>
        </p:nvPicPr>
        <p:blipFill>
          <a:blip r:embed="rId23"/>
          <a:stretch/>
        </p:blipFill>
        <p:spPr>
          <a:xfrm rot="18810000">
            <a:off x="3513240" y="5013000"/>
            <a:ext cx="1238040" cy="32364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4" descr="http://www.co2030.dk/~/media/Subsites/CO2030/Tema/City-Brand/co2030-with-aarhus.ashx">
            <a:hlinkClick r:id="rId24"/>
          </p:cNvPr>
          <p:cNvPicPr/>
          <p:nvPr/>
        </p:nvPicPr>
        <p:blipFill>
          <a:blip r:embed="rId25"/>
          <a:stretch/>
        </p:blipFill>
        <p:spPr>
          <a:xfrm>
            <a:off x="272880" y="549360"/>
            <a:ext cx="11908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50760" y="709200"/>
            <a:ext cx="7963200" cy="6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000000"/>
                </a:solidFill>
                <a:latin typeface="Tahoma"/>
                <a:ea typeface="Tahoma"/>
              </a:rPr>
              <a:t>De deltagende virksomhed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8" name="Diagram 6" descr=""/>
          <p:cNvPicPr/>
          <p:nvPr/>
        </p:nvPicPr>
        <p:blipFill>
          <a:blip r:embed="rId1"/>
          <a:stretch/>
        </p:blipFill>
        <p:spPr>
          <a:xfrm>
            <a:off x="1859040" y="1487520"/>
            <a:ext cx="7040520" cy="464508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2" descr=""/>
          <p:cNvPicPr/>
          <p:nvPr/>
        </p:nvPicPr>
        <p:blipFill>
          <a:blip r:embed="rId2"/>
          <a:stretch/>
        </p:blipFill>
        <p:spPr>
          <a:xfrm>
            <a:off x="5168880" y="1916280"/>
            <a:ext cx="792360" cy="7650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4" descr="http://www.vestas.com/files/billeder/Photos/About_Vestas/Vision_new.jpg"/>
          <p:cNvPicPr/>
          <p:nvPr/>
        </p:nvPicPr>
        <p:blipFill>
          <a:blip r:embed="rId3"/>
          <a:srcRect l="50428" t="0" r="0" b="0"/>
          <a:stretch/>
        </p:blipFill>
        <p:spPr>
          <a:xfrm>
            <a:off x="6465960" y="4508640"/>
            <a:ext cx="647640" cy="6444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6" descr="http://inhabitat.com/wp-content/blogs.dir/1/files/2011/01/Electric-Cars-Noise-Law-2-537x335.jpg"/>
          <p:cNvPicPr/>
          <p:nvPr/>
        </p:nvPicPr>
        <p:blipFill>
          <a:blip r:embed="rId4"/>
          <a:stretch/>
        </p:blipFill>
        <p:spPr>
          <a:xfrm>
            <a:off x="7184880" y="4508640"/>
            <a:ext cx="973440" cy="64908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8" descr="http://t2.gstatic.com/images?q=tbn:ANd9GcR377t_b6xw_mYohHKKMqxjUeO4JbkMvi5BOrGNSoDHtggboUT6MHs6uw"/>
          <p:cNvPicPr/>
          <p:nvPr/>
        </p:nvPicPr>
        <p:blipFill>
          <a:blip r:embed="rId5"/>
          <a:srcRect l="9616" t="0" r="12912" b="0"/>
          <a:stretch/>
        </p:blipFill>
        <p:spPr>
          <a:xfrm>
            <a:off x="3873600" y="1916280"/>
            <a:ext cx="863640" cy="7506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10" descr="Se billede i fuld størrelse"/>
          <p:cNvPicPr/>
          <p:nvPr/>
        </p:nvPicPr>
        <p:blipFill>
          <a:blip r:embed="rId6"/>
          <a:srcRect l="0" t="0" r="14439" b="14974"/>
          <a:stretch/>
        </p:blipFill>
        <p:spPr>
          <a:xfrm>
            <a:off x="2649600" y="4581360"/>
            <a:ext cx="766800" cy="57636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12" descr="Se billede i fuld størrelse"/>
          <p:cNvPicPr/>
          <p:nvPr/>
        </p:nvPicPr>
        <p:blipFill>
          <a:blip r:embed="rId7"/>
          <a:stretch/>
        </p:blipFill>
        <p:spPr>
          <a:xfrm>
            <a:off x="1712880" y="4581360"/>
            <a:ext cx="86364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50760" y="709200"/>
            <a:ext cx="7963200" cy="6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600" spc="-1" strike="noStrike">
                <a:solidFill>
                  <a:srgbClr val="000000"/>
                </a:solidFill>
                <a:latin typeface="Tahoma"/>
                <a:ea typeface="Tahoma"/>
              </a:rPr>
              <a:t>Motivation for netværkspartner:</a:t>
            </a:r>
            <a:br>
              <a:rPr sz="3600"/>
            </a:br>
            <a:r>
              <a:rPr b="1" lang="da-DK" sz="2800" spc="-1" strike="noStrike">
                <a:solidFill>
                  <a:srgbClr val="000000"/>
                </a:solidFill>
                <a:latin typeface="Tahoma"/>
                <a:ea typeface="Tahoma"/>
              </a:rPr>
              <a:t>CO2, trængsel og medarbejdernes sundh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1"/>
          <p:cNvSpPr/>
          <p:nvPr/>
        </p:nvSpPr>
        <p:spPr>
          <a:xfrm>
            <a:off x="2144880" y="2170080"/>
            <a:ext cx="5688000" cy="311148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1800" spc="-1" strike="noStrike">
                <a:solidFill>
                  <a:srgbClr val="333333"/>
                </a:solidFill>
                <a:latin typeface="Verdana"/>
                <a:ea typeface="Calibri"/>
              </a:rPr>
              <a:t>”</a:t>
            </a:r>
            <a:r>
              <a:rPr b="0" i="1" lang="da-DK" sz="1800" spc="-1" strike="noStrike">
                <a:solidFill>
                  <a:srgbClr val="333333"/>
                </a:solidFill>
                <a:latin typeface="Verdana"/>
                <a:ea typeface="Calibri"/>
              </a:rPr>
              <a:t>Vi står over for en transportudfordring, som har betydning for områdets CO2-udledning, antallet af biler på vejen og medarbejdernes sundhed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1800" spc="-1" strike="noStrike">
                <a:solidFill>
                  <a:srgbClr val="333333"/>
                </a:solidFill>
                <a:latin typeface="Verdana"/>
                <a:ea typeface="Calibri"/>
              </a:rPr>
              <a:t>Med undersøgelsen tager vi nu et vigtigt skridt på vejen til at finde konkrete løsninger, der kan gøre en positiv forskel for klimaet og medarbejdersundheden”</a:t>
            </a:r>
            <a:r>
              <a:rPr b="0" lang="da-DK" sz="1800" spc="-1" strike="noStrike">
                <a:solidFill>
                  <a:srgbClr val="333333"/>
                </a:solidFill>
                <a:latin typeface="Verdana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da-DK" sz="1800" spc="-1" strike="noStrike">
                <a:solidFill>
                  <a:srgbClr val="333333"/>
                </a:solidFill>
                <a:latin typeface="Verdana"/>
                <a:ea typeface="Calibri"/>
              </a:rPr>
              <a:t>Bjarne Langdahl Rii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333333"/>
                </a:solidFill>
                <a:latin typeface="Verdana"/>
                <a:ea typeface="Calibri"/>
              </a:rPr>
              <a:t>Innovationsmanager ved Agro Food Pa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ktangel 13"/>
          <p:cNvSpPr/>
          <p:nvPr/>
        </p:nvSpPr>
        <p:spPr>
          <a:xfrm>
            <a:off x="1857240" y="2421000"/>
            <a:ext cx="6191280" cy="311148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1800" spc="-1" strike="noStrike">
                <a:solidFill>
                  <a:srgbClr val="333333"/>
                </a:solidFill>
                <a:latin typeface="Verdana"/>
                <a:ea typeface="Calibri"/>
              </a:rPr>
              <a:t>”</a:t>
            </a:r>
            <a:r>
              <a:rPr b="0" i="1" lang="da-DK" sz="1800" spc="-1" strike="noStrike">
                <a:solidFill>
                  <a:srgbClr val="333333"/>
                </a:solidFill>
                <a:latin typeface="Verdana"/>
                <a:ea typeface="Calibri"/>
              </a:rPr>
              <a:t>Vi leverer hver dag bæredygtige løsninger til vores kunder, og vi arbejder selvfølgelig også med, hvordan vi også selv agerer bæredygtigt som virksomhed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1800" spc="-1" strike="noStrike">
                <a:solidFill>
                  <a:srgbClr val="333333"/>
                </a:solidFill>
                <a:latin typeface="Verdana"/>
                <a:ea typeface="Calibri"/>
              </a:rPr>
              <a:t>Nu tager vi det ned på medarbejderniveau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1800" spc="-1" strike="noStrike">
                <a:solidFill>
                  <a:srgbClr val="333333"/>
                </a:solidFill>
                <a:latin typeface="Verdana"/>
                <a:ea typeface="Calibri"/>
              </a:rPr>
              <a:t>og udover at vi måske kan afhjælpe trængslen her i området, håber vi at det kan hjælpe til at få gladere medarbejdere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333333"/>
                </a:solidFill>
                <a:latin typeface="Verdana"/>
                <a:ea typeface="Calibri"/>
              </a:rPr>
              <a:t>Søren Sørens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333333"/>
                </a:solidFill>
                <a:latin typeface="Verdana"/>
                <a:ea typeface="Calibri"/>
              </a:rPr>
              <a:t>Administrerende direktør i NRG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Titel 9"/>
          <p:cNvSpPr/>
          <p:nvPr/>
        </p:nvSpPr>
        <p:spPr>
          <a:xfrm>
            <a:off x="1103400" y="861840"/>
            <a:ext cx="7962840" cy="6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600" spc="-1" strike="noStrike">
                <a:solidFill>
                  <a:srgbClr val="000000"/>
                </a:solidFill>
                <a:latin typeface="Tahoma"/>
                <a:ea typeface="Tahoma"/>
              </a:rPr>
              <a:t>Motivation for netværkspartner:</a:t>
            </a:r>
            <a:br>
              <a:rPr sz="3600"/>
            </a:br>
            <a:r>
              <a:rPr b="1" lang="da-DK" sz="3600" spc="-1" strike="noStrike">
                <a:solidFill>
                  <a:srgbClr val="000000"/>
                </a:solidFill>
                <a:latin typeface="Tahoma"/>
                <a:ea typeface="Tahoma"/>
              </a:rPr>
              <a:t>”</a:t>
            </a:r>
            <a:r>
              <a:rPr b="1" lang="da-DK" sz="2800" spc="-1" strike="noStrike">
                <a:solidFill>
                  <a:srgbClr val="000000"/>
                </a:solidFill>
                <a:latin typeface="Tahoma"/>
                <a:ea typeface="Tahoma"/>
              </a:rPr>
              <a:t>Strategi på medarbejderniveau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50760" y="709200"/>
            <a:ext cx="7963200" cy="6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600" spc="-1" strike="noStrike">
                <a:solidFill>
                  <a:srgbClr val="000000"/>
                </a:solidFill>
                <a:latin typeface="Tahoma"/>
                <a:ea typeface="Tahoma"/>
              </a:rPr>
              <a:t>Motivation for netværkspartner:</a:t>
            </a:r>
            <a:br>
              <a:rPr sz="3600"/>
            </a:br>
            <a:r>
              <a:rPr b="1" lang="da-DK" sz="2800" spc="-1" strike="noStrike">
                <a:solidFill>
                  <a:srgbClr val="000000"/>
                </a:solidFill>
                <a:latin typeface="Tahoma"/>
                <a:ea typeface="Tahoma"/>
              </a:rPr>
              <a:t>Mulighed for nye valg og van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Rectangle 1"/>
          <p:cNvSpPr/>
          <p:nvPr/>
        </p:nvSpPr>
        <p:spPr>
          <a:xfrm>
            <a:off x="1568520" y="2247840"/>
            <a:ext cx="6624720" cy="311148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1800" spc="-1" strike="noStrike">
                <a:solidFill>
                  <a:srgbClr val="333333"/>
                </a:solidFill>
                <a:latin typeface="Verdana"/>
                <a:ea typeface="Calibri"/>
              </a:rPr>
              <a:t>”</a:t>
            </a:r>
            <a:r>
              <a:rPr b="0" i="1" lang="da-DK" sz="1800" spc="-1" strike="noStrike">
                <a:solidFill>
                  <a:srgbClr val="333333"/>
                </a:solidFill>
                <a:latin typeface="Verdana"/>
                <a:ea typeface="Calibri"/>
              </a:rPr>
              <a:t>Vi ved godt, at det er en lang proces at ændre på vaner og adfærd, og vores målsætning er at bringe andelen af biltrafikken betydeligt ned inden 2020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1800" spc="-1" strike="noStrike">
                <a:solidFill>
                  <a:srgbClr val="333333"/>
                </a:solidFill>
                <a:latin typeface="Verdana"/>
                <a:ea typeface="Calibri"/>
              </a:rPr>
              <a:t>Vi arbejder for eksempel me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1800" spc="-1" strike="noStrike">
                <a:solidFill>
                  <a:srgbClr val="333333"/>
                </a:solidFill>
                <a:latin typeface="Verdana"/>
                <a:ea typeface="Calibri"/>
              </a:rPr>
              <a:t>at stille elcykler til rådighed for medarbejder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1800" spc="-1" strike="noStrike">
                <a:solidFill>
                  <a:srgbClr val="333333"/>
                </a:solidFill>
                <a:latin typeface="Verdana"/>
                <a:ea typeface="Calibri"/>
              </a:rPr>
              <a:t>og sætte mere fokus på samkørselsordninger”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333333"/>
                </a:solidFill>
                <a:latin typeface="Verdana"/>
                <a:ea typeface="Calibri"/>
              </a:rPr>
              <a:t>Wilhelm Peders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333333"/>
                </a:solidFill>
                <a:latin typeface="Verdana"/>
                <a:ea typeface="Calibri"/>
              </a:rPr>
              <a:t>Administrationschef i NRG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7T10:29:58Z</dcterms:created>
  <dc:creator>azkbd47</dc:creator>
  <dc:description/>
  <dc:language>en-US</dc:language>
  <cp:lastModifiedBy>therese.nasman</cp:lastModifiedBy>
  <dcterms:modified xsi:type="dcterms:W3CDTF">2012-06-15T14:31:58Z</dcterms:modified>
  <cp:revision>40</cp:revision>
  <dc:subject/>
  <dc:title>Dias nummer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16695413</vt:r8>
  </property>
  <property fmtid="{D5CDD505-2E9C-101B-9397-08002B2CF9AE}" pid="3" name="_AuthorEmail">
    <vt:lpwstr>cpe@aarhus.dk</vt:lpwstr>
  </property>
  <property fmtid="{D5CDD505-2E9C-101B-9397-08002B2CF9AE}" pid="4" name="_AuthorEmailDisplayName">
    <vt:lpwstr>Cathrine Cecilie Pedersen</vt:lpwstr>
  </property>
  <property fmtid="{D5CDD505-2E9C-101B-9397-08002B2CF9AE}" pid="5" name="_EmailSubject">
    <vt:lpwstr>Mobility Management i Skejby - kort og lang version</vt:lpwstr>
  </property>
  <property fmtid="{D5CDD505-2E9C-101B-9397-08002B2CF9AE}" pid="6" name="_NewReviewCycle">
    <vt:lpwstr/>
  </property>
  <property fmtid="{D5CDD505-2E9C-101B-9397-08002B2CF9AE}" pid="7" name="_PreviousAdHocReviewCycleID">
    <vt:r8>2067532080</vt:r8>
  </property>
</Properties>
</file>