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199D-FA04-4317-BECF-D5F55CBE0104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F478-CB76-4BA9-835E-2180952C9BF7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teckningar från Mikaels workshopdel om BRF Stabbegatan, resultat av brainstorm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etmarkerade punkter det som han lyfte som det viktig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64B9-8839-4EB8-AC8C-DE728D5A5C2F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NI-ko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stighetsförvaltning och uthyrning delas upp på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200" spc="-1" strike="noStrike">
                <a:solidFill>
                  <a:srgbClr val="000000"/>
                </a:solidFill>
                <a:latin typeface="Calibri"/>
              </a:rPr>
              <a:t>förvaltning och uthyrning av egna fastigh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- bostäder 702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örvaltning i bostadsrättsförening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200" spc="-1" strike="noStrike">
                <a:solidFill>
                  <a:srgbClr val="000000"/>
                </a:solidFill>
                <a:latin typeface="Calibri"/>
              </a:rPr>
              <a:t>föreningar</a:t>
            </a:r>
            <a:r>
              <a:rPr b="0" i="1" lang="sv-SE" sz="1200" spc="-1" strike="noStrike">
                <a:solidFill>
                  <a:srgbClr val="000000"/>
                </a:solidFill>
                <a:latin typeface="Calibri"/>
              </a:rPr>
              <a:t> som heter Bostadsrättsförening (BRF) i namnet och har juridisk form 53 (bostadsrättsförening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- 70204, förvaltning i bostadsrättsföreningar (ej på uppdra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200" spc="-1" strike="noStrike">
                <a:solidFill>
                  <a:srgbClr val="000000"/>
                </a:solidFill>
                <a:latin typeface="Calibri"/>
              </a:rPr>
              <a:t>företag</a:t>
            </a:r>
            <a:r>
              <a:rPr b="0" i="1" lang="sv-SE" sz="1200" spc="-1" strike="noStrike">
                <a:solidFill>
                  <a:srgbClr val="000000"/>
                </a:solidFill>
                <a:latin typeface="Calibri"/>
              </a:rPr>
              <a:t> som förvaltar bostadsrättsföreningar på uppdr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- 70329, övrig fastighetsförvaltning på uppdr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asted from &lt;http://www.foretagsregistret.scb.se/sni/whsniinfonext.asp#fastigheter&g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1CBD-04FC-4CB9-8D7A-4542265F7A68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173-FCE7-41F4-B178-01EE0625829E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2D7-9C01-49AC-9F58-735839E1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273-AA78-4B03-8661-F334F1D1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FA2-1DE6-4200-8FBC-B28B2811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9D8-D1B8-453F-AA51-D9E7BFBC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329-6B5B-4D18-8051-2F94EDE8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369-3ED6-48B4-A661-2D20C15E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D3B-EFC9-4282-8DAE-E1F06A12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636-6259-42A4-B1DF-880E8B72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6D9-353D-47F8-90E1-8B09DEC8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69C-8C38-495F-A268-8F93B03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128-FE53-4C9B-A7DC-6CFBC10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BB1-40E6-4924-A1E0-CE619EF9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6210-1A12-40E6-AD39-413FA314D77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allbarutvecklingvast.se/belysning/referensmaterial" TargetMode="External"/><Relationship Id="rId2" Type="http://schemas.openxmlformats.org/officeDocument/2006/relationships/hyperlink" Target="http://hallbarutvecklingvast.se/belysning/referensmateria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hyperlink" Target="http://hallbarutvecklingvast.se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sb.se/omhsb/organisation/bostadsrattsforeningar/bostadsrattsforeningslista" TargetMode="External"/><Relationship Id="rId2" Type="http://schemas.openxmlformats.org/officeDocument/2006/relationships/hyperlink" Target="http://www.hsb.se/omhsb/organisation/bostadsrattsforeningar/bostadsrattsforeningslista" TargetMode="External"/><Relationship Id="rId3" Type="http://schemas.openxmlformats.org/officeDocument/2006/relationships/hyperlink" Target="http://www.hsb.se/omhsb/organisation/bostadsrattsforeningar/bostadsrattsforeningslista" TargetMode="External"/><Relationship Id="rId4" Type="http://schemas.openxmlformats.org/officeDocument/2006/relationships/hyperlink" Target="http://www.riksbyggen.se/Kontakt/Bostadsrattsforeningar/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Energieffektiv belysning i flerbostadsh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Utbildningsd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Alingsås 30/10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sara-linnea.osterval\AppData\Local\Microsoft\Windows\Temporary Internet Files\Content.IE5\BFV2EQGC\MC900437370[1].jpg"/>
          <p:cNvPicPr/>
          <p:nvPr/>
        </p:nvPicPr>
        <p:blipFill>
          <a:blip r:embed="rId2"/>
          <a:stretch/>
        </p:blipFill>
        <p:spPr>
          <a:xfrm>
            <a:off x="17640" y="0"/>
            <a:ext cx="20556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0.00 Drop-in med f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0.3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Introduk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LED och andra lamptyp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Styrnings/dimmer-teknik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Workshop – testa olika styrnin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2.45 Lunc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3.4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Sälj in belysning till en BR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Erfarenheter från verklighe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Beräknin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5.45 F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6.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Resten av projekt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Referensmate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Workshop – hur når du fastighetsäg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7.30 Mac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200" spc="-1" strike="noStrike">
                <a:solidFill>
                  <a:srgbClr val="000000"/>
                </a:solidFill>
                <a:latin typeface="Calibri"/>
              </a:rPr>
              <a:t>17.45 Ljusguid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alibri"/>
              </a:rPr>
              <a:t>Argument för att få en BRF att investera i ny belysn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Öka värdet på fastighet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Elsystemet är uttjänt - kommer ändå behöva åtgärdas (om ej gjort något på 50 å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alibri"/>
              </a:rPr>
              <a:t>Mindre fastighetsskötsel: dyrt att byta lampor. </a:t>
            </a: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Inköpt som konsulttid. - viktigast för BRF Stabbega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alibri"/>
              </a:rPr>
              <a:t>Trygghet, trivsel </a:t>
            </a: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 - viktigast för BRF Stabbega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Grundbelysning (bra bl.a. för brandsäkerhet - ser att det är rök där när tittar 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Rörelsedektetorer: lyser det så är det någon dä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alibri"/>
              </a:rPr>
              <a:t>Design: vackert på gården</a:t>
            </a: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Kan ej stjäla LED-armaturer där ljuskällan är integrer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Eller ljuskällor med kallvitt ljus - vill inte ha he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alibri"/>
              </a:rPr>
              <a:t>Referenser, goda exemp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Brandrisk - drossel i lysrör som blir gamla och tor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Lågenergilampor i trappuppgång - går sönder i flyttar etc - kvicksilver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Energitjänster - någon betalar investeringen mot att de får del i besparing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alibri"/>
              </a:rPr>
              <a:t>Ekonom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Men kan oftast inte räkna hem investeringen på energibesparingen – belysningen är tänd så lite tid i trapphus. Längre brinntid i ljusskyltar utomhus, men räknar inte hem på bara energi ändå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Underhåll! 400kr/h, tar en stund att hämta stege - klättra upp - byta en-två lampo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Livslängden viktigast! Behöver kunna byta alla lampor på en gång och ha koll på systemet. Så sällan som möjlig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På BRF Stabbegatan: Bytte bara lampor, inga armaturer. Kallvitt ljus. Payoff på 1 år + ökad trivs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är inhyrd personal: lättare att minska inköpta timm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är egen personal: arbetsmiljö, bättre ljus, behöver byta mindre ofta (inte klättra på ste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Energisparkalkyl - m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LB-lux mall för att beräkna besparing på byte av ljuskällor, finns här: </a:t>
            </a:r>
            <a:r>
              <a:rPr b="0" lang="sv-SE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sv-SE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allbarutvecklingvast.se/belysning/referensmaterial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Brinntid: timmar/d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Snittid för att byta lampan (inkl förflyttning, inköp, lagerhållning etc) : 18 min/la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Kan användas för olika lamptyper - bara att byta 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Hela projekt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sara-linnea.osterval\AppData\Local\Microsoft\Windows\Temporary Internet Files\Content.IE5\89V2AL9F\MP900443349[1].jpg"/>
          <p:cNvPicPr/>
          <p:nvPr/>
        </p:nvPicPr>
        <p:blipFill>
          <a:blip r:embed="rId2"/>
          <a:stretch/>
        </p:blipFill>
        <p:spPr>
          <a:xfrm>
            <a:off x="324000" y="1246320"/>
            <a:ext cx="3985920" cy="265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sara-linnea.osterval\AppData\Local\Microsoft\Windows\Temporary Internet Files\Content.IE5\S37MSXX8\MC900057313[1].wmf"/>
          <p:cNvPicPr/>
          <p:nvPr/>
        </p:nvPicPr>
        <p:blipFill>
          <a:blip r:embed="rId3"/>
          <a:stretch/>
        </p:blipFill>
        <p:spPr>
          <a:xfrm>
            <a:off x="1042920" y="2684520"/>
            <a:ext cx="1811520" cy="1709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611280" y="4394160"/>
            <a:ext cx="3168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Besök i flerbostadshus (ek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u 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→ Aug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Mål: 60 – 200 besö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5 besök/rådgiv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Rapportering på </a:t>
            </a:r>
            <a:r>
              <a:rPr b="0" lang="sv-SE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4"/>
              </a:rPr>
              <a:t>web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C:\Users\sara-linnea.osterval\AppData\Local\Microsoft\Windows\Temporary Internet Files\Content.IE5\89V2AL9F\MP900402243[1].jpg"/>
          <p:cNvPicPr/>
          <p:nvPr/>
        </p:nvPicPr>
        <p:blipFill>
          <a:blip r:embed="rId5"/>
          <a:stretch/>
        </p:blipFill>
        <p:spPr>
          <a:xfrm>
            <a:off x="6588000" y="934920"/>
            <a:ext cx="2081160" cy="3121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4643280" y="1557360"/>
            <a:ext cx="2016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Goda exempe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→ Maj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Mål: 10 st</a:t>
            </a: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ekr: Hit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  <a:ea typeface="Calibri"/>
              </a:rPr>
              <a:t>HUV: Skri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4" descr="C:\Users\sara-linnea.osterval\AppData\Local\Microsoft\Windows\Temporary Internet Files\Content.IE5\89V2AL9F\MC900040474[1].wmf"/>
          <p:cNvPicPr/>
          <p:nvPr/>
        </p:nvPicPr>
        <p:blipFill>
          <a:blip r:embed="rId6"/>
          <a:stretch/>
        </p:blipFill>
        <p:spPr>
          <a:xfrm>
            <a:off x="3699000" y="4686480"/>
            <a:ext cx="1769760" cy="1450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5935680" y="4273560"/>
            <a:ext cx="24940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Upplysningsre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Höst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Mål: 3 st * 15 deltag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Målgrupp: fastighetsägare, ev installatörer, konsul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HUV: organiser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Ekr: deltar</a:t>
            </a: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96880" y="5854680"/>
            <a:ext cx="31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Enkät till fastighetsägare (HU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Nov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Vilka vill vi nå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Bostadsrättsförening</a:t>
            </a: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(BR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inst tre hushåll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upp till flera hund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oende = medlemmar = beslutande (via årsmö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Kontakt: Styrel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Lekmä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Ideellt arb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Privat fastighetsäg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71600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rån ”jag äger ett hyreshus och vid sidan av”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ill stora bolag med många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Sikta på de lite mindr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oende = hyresgä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Kontakt: VD/äg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sara-linnea.osterval\AppData\Local\Microsoft\Windows\Temporary Internet Files\Content.IE5\89V2AL9F\MC900391354[1].wmf"/>
          <p:cNvPicPr/>
          <p:nvPr/>
        </p:nvPicPr>
        <p:blipFill>
          <a:blip r:embed="rId2"/>
          <a:stretch/>
        </p:blipFill>
        <p:spPr>
          <a:xfrm>
            <a:off x="3657600" y="5084640"/>
            <a:ext cx="18288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Hur hittar du BRF:er och mindre fastighetsägare i din komm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Näringslivskontoret kan ha register på BRF och fastighetsäga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Eniro, hitta.se, googla. Sök på t.ex. ”fastighetsbolag” ”bostadsbolag” ”bostadsrättsförening” och kommun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HSB &amp; Riksbyggen har register över BRF på sina hemsid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HSB-föreningar: </a:t>
            </a:r>
            <a:r>
              <a:rPr b="0" lang="sv-SE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sv-SE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sv-SE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hsb.se/omhsb/organisation/bostadsrattsforeningar/bostadsrattsforeningsl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Riksbyggen-föreningar: </a:t>
            </a:r>
            <a:r>
              <a:rPr b="0" lang="sv-SE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://www.riksbyggen.se/Kontakt/Bostadsrattsforeningar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HSB och Riksbyggen har egna energirådgivare som föreningarna kan hyra in på konsultba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Det finns ambulerande ”energiutställningar” för BRF (tips från Sten Eliasson, Trollhättan)</a:t>
            </a:r>
            <a:br>
              <a:rPr sz="1700"/>
            </a:b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Prata i fikarummet – höra sig för med kollegor, ”mun till mu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Annonsera i lokalpress, bjuda in till trä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Fastighetsregistret (miljöinspektörer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Sök i gratisdatabaser t.ex. Allabolag.se, foretagsfakta.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via SNI-kod (se anteckningsfälte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Via nyckelord + kommu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Mässor, bostadsrättsmäs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Hyresbolag på kommunens hemsida – bostadskö e.dy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SCB – beställa utdrag ur register kostar några tusenlap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huv_logo_pms (2)"/>
          <p:cNvPicPr/>
          <p:nvPr/>
        </p:nvPicPr>
        <p:blipFill>
          <a:blip r:embed="rId5"/>
          <a:stretch/>
        </p:blipFill>
        <p:spPr>
          <a:xfrm>
            <a:off x="8302680" y="5329080"/>
            <a:ext cx="80640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Hur har du jobbat med flerbostadshus? Idéer på nya meto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ynka med miljöinspektöre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Inspektion i hyreshus vid klagomål – kanske dåligt läge att prata belysning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iljösamverkan hade ett projekt med inspektörer/ekr (Lilla Ed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Energideklaration – krav för hyresvärdar - sätt att ta upp fråg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ostadsrättsmässor (Sten Eliass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eningslöst att ge sig på de stora (Wallenstam, Vasakronan etc) – (tror sig ha) koll på läget själ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ålla föredrag på årsmö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Visa på nyttan, hur kan de tjäna på energibesparing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RF:er som tar kontak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Nybildade BRF kan vara en bra ingång – har inte koll själ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oda exempel att visa up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Ha med exempel från en ungefär lika stor förening, om möjlig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otaren vet vem som fossileldar fortfarande – hitta bottenskrap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yresgästföreningsmöte (mer hushålls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Ordna utbildning för fastighetsäg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ålla presentation på Fastighetsägarnas frukost/lunchmö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Hålls  2 ggr/år i Gbg, Borås, Skövde, Lidköping, Uddevall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Calibri"/>
              </a:rPr>
              <a:t>Kontakta Jan Thorsson på Fastighetsägarna 033-233064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Hur pratar du med målgruppen? Ord att använda/undvika? Kunskapsnivå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Väldigt olika niv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ata om rätt saker – det de är intresserade av (ekonomi, säkerhet, desig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vända en checklista som en slags guide för sam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uv_logo_pms (2)"/>
          <p:cNvPicPr/>
          <p:nvPr/>
        </p:nvPicPr>
        <p:blipFill>
          <a:blip r:embed="rId1"/>
          <a:stretch/>
        </p:blipFill>
        <p:spPr>
          <a:xfrm>
            <a:off x="8028000" y="5084640"/>
            <a:ext cx="80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3:02:58Z</dcterms:created>
  <dc:creator>sara-linea.ostervall</dc:creator>
  <dc:description/>
  <dc:language>en-US</dc:language>
  <cp:lastModifiedBy>sara-linea.ostervall</cp:lastModifiedBy>
  <dcterms:modified xsi:type="dcterms:W3CDTF">2012-11-06T15:08:45Z</dcterms:modified>
  <cp:revision>32</cp:revision>
  <dc:subject/>
  <dc:title>Energieffektiv belysning i flerbostadsh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A1AE1F63590E943A7FD634DE4BDF50A</vt:lpwstr>
  </property>
  <property fmtid="{D5CDD505-2E9C-101B-9397-08002B2CF9AE}" pid="3" name="_dlc_DocId">
    <vt:lpwstr>HALLBUTVVAST-27-12636</vt:lpwstr>
  </property>
  <property fmtid="{D5CDD505-2E9C-101B-9397-08002B2CF9AE}" pid="4" name="_dlc_DocIdItemGuid">
    <vt:lpwstr>7dbe597b-b1e4-405e-ab85-0d740925d336</vt:lpwstr>
  </property>
  <property fmtid="{D5CDD505-2E9C-101B-9397-08002B2CF9AE}" pid="5" name="_dlc_DocIdUrl">
    <vt:lpwstr>https://hallbarutvecklingvast.sharepoint.com/_layouts/DocIdRedir.aspx?ID=HALLBUTVVAST-27-12636, HALLBUTVVAST-27-12636</vt:lpwstr>
  </property>
</Properties>
</file>